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5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23.gif" ContentType="image/gif"/>
  <Override PartName="/ppt/media/image7.wmf" ContentType="image/x-wmf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13.gif" ContentType="image/gif"/>
  <Override PartName="/ppt/media/image4.png" ContentType="image/png"/>
  <Override PartName="/ppt/media/image27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24.gif" ContentType="image/gif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0705-0227-4693-B627-33BADCCED0D2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B2B-4EDA-41DB-831A-18726A9B9F75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7C7-CD0F-49A3-824D-0FC44A030BD6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88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44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44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993240"/>
            <a:ext cx="84963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88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88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604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2440" y="160020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604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2440" y="3964320"/>
            <a:ext cx="273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993240"/>
            <a:ext cx="84963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8880" y="396432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8880" y="1600200"/>
            <a:ext cx="415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850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248520"/>
            <a:ext cx="883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228600" y="0"/>
          <a:ext cx="89154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8915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12720"/>
          <a:ext cx="13792320" cy="10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12720"/>
                    <a:ext cx="13792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077320" y="1143000"/>
            <a:ext cx="73911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16099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43800" y="2133720"/>
            <a:ext cx="1147680" cy="136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15200" y="1371600"/>
            <a:ext cx="128736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28920" y="5181480"/>
            <a:ext cx="0" cy="1689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3573000"/>
            <a:ext cx="3959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203640" y="46810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icrosoft.com/frontpage/sharepoint/" TargetMode="External"/><Relationship Id="rId2" Type="http://schemas.openxmlformats.org/officeDocument/2006/relationships/image" Target="../media/image20.png"/><Relationship Id="rId3" Type="http://schemas.openxmlformats.org/officeDocument/2006/relationships/hyperlink" Target="http://www.microsoft.com/frontpage/sharepoint/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gif"/><Relationship Id="rId10" Type="http://schemas.openxmlformats.org/officeDocument/2006/relationships/image" Target="../media/image21.png"/><Relationship Id="rId11" Type="http://schemas.openxmlformats.org/officeDocument/2006/relationships/image" Target="../media/image23.gif"/><Relationship Id="rId12" Type="http://schemas.openxmlformats.org/officeDocument/2006/relationships/image" Target="../media/image21.png"/><Relationship Id="rId13" Type="http://schemas.openxmlformats.org/officeDocument/2006/relationships/image" Target="../media/image24.gif"/><Relationship Id="rId1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.wm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6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9.wmf"/><Relationship Id="rId24" Type="http://schemas.openxmlformats.org/officeDocument/2006/relationships/slideLayout" Target="../slideLayouts/slideLayout8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3640" y="3573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nytt mulighete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jelpemidler i gjennomføring av prosjektarbeid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03640" y="4149720"/>
            <a:ext cx="446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Nettanic torsdag 30. mai 2002</a:t>
            </a:r>
            <a:br>
              <a:rPr sz="1400"/>
            </a:b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Tore Wers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wersland@nettspes.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fordrin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kus på kontinuerlig oppfølg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ape kommunikasjon underveis i prosess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vikle samarbeidsklima hvor klient og leverandør bidr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gre informasjon produsert i prosjekt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gre kommunikasjon som basis for læ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kusere på samhand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økonom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mdri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kumentasj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51280" y="3573360"/>
            <a:ext cx="5113440" cy="1873440"/>
            <a:chOff x="3851280" y="3573360"/>
            <a:chExt cx="5113440" cy="1873440"/>
          </a:xfrm>
        </p:grpSpPr>
        <p:graphicFrame>
          <p:nvGraphicFramePr>
            <p:cNvPr id="151" name=""/>
            <p:cNvGraphicFramePr/>
            <p:nvPr/>
          </p:nvGraphicFramePr>
          <p:xfrm>
            <a:off x="3851280" y="3573360"/>
            <a:ext cx="1644480" cy="14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1280" y="3573360"/>
                      <a:ext cx="1644480" cy="14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292720" y="4797360"/>
              <a:ext cx="3672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arent prosjektgjennomfø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SharePoint Team Serv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381400" cy="5716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4637160" y="2525760"/>
            <a:ext cx="2527200" cy="2282400"/>
            <a:chOff x="4637160" y="2525760"/>
            <a:chExt cx="2527200" cy="2282400"/>
          </a:xfrm>
        </p:grpSpPr>
        <p:sp>
          <p:nvSpPr>
            <p:cNvPr id="159" name="_s57371"/>
            <p:cNvSpPr/>
            <p:nvPr/>
          </p:nvSpPr>
          <p:spPr>
            <a:xfrm flipH="1">
              <a:off x="5292360" y="4105080"/>
              <a:ext cx="304920" cy="17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7370"/>
            <p:cNvSpPr/>
            <p:nvPr/>
          </p:nvSpPr>
          <p:spPr>
            <a:xfrm>
              <a:off x="4637160" y="4106880"/>
              <a:ext cx="701640" cy="7012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7369"/>
            <p:cNvSpPr/>
            <p:nvPr/>
          </p:nvSpPr>
          <p:spPr>
            <a:xfrm>
              <a:off x="6203880" y="4105080"/>
              <a:ext cx="304920" cy="17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7368"/>
            <p:cNvSpPr/>
            <p:nvPr/>
          </p:nvSpPr>
          <p:spPr>
            <a:xfrm>
              <a:off x="6462720" y="4105080"/>
              <a:ext cx="701640" cy="70128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7367"/>
            <p:cNvSpPr/>
            <p:nvPr/>
          </p:nvSpPr>
          <p:spPr>
            <a:xfrm flipV="1">
              <a:off x="5900760" y="3227400"/>
              <a:ext cx="0" cy="352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57366"/>
            <p:cNvSpPr/>
            <p:nvPr/>
          </p:nvSpPr>
          <p:spPr>
            <a:xfrm>
              <a:off x="5550120" y="2525760"/>
              <a:ext cx="701640" cy="701280"/>
            </a:xfrm>
            <a:prstGeom prst="ellipse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57365"/>
            <p:cNvSpPr/>
            <p:nvPr/>
          </p:nvSpPr>
          <p:spPr>
            <a:xfrm>
              <a:off x="5550120" y="3579840"/>
              <a:ext cx="701640" cy="7012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SharePoint Team Services">
              <a:hlinkClick r:id="rId3"/>
            </p:cNvPr>
            <p:cNvPicPr/>
            <p:nvPr/>
          </p:nvPicPr>
          <p:blipFill>
            <a:blip r:embed="rId4"/>
            <a:srcRect l="5503" t="27456" r="89010" b="13035"/>
            <a:stretch/>
          </p:blipFill>
          <p:spPr>
            <a:xfrm>
              <a:off x="4913280" y="4228920"/>
              <a:ext cx="17964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Screen shot of SharePoint Team Services default home page"/>
            <p:cNvPicPr/>
            <p:nvPr/>
          </p:nvPicPr>
          <p:blipFill>
            <a:blip r:embed="rId5"/>
            <a:stretch/>
          </p:blipFill>
          <p:spPr>
            <a:xfrm>
              <a:off x="5531040" y="3716280"/>
              <a:ext cx="77796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SharePoint Team Services"/>
            <p:cNvPicPr/>
            <p:nvPr/>
          </p:nvPicPr>
          <p:blipFill>
            <a:blip r:embed="rId6"/>
            <a:srcRect l="16478" t="27456" r="78035" b="8501"/>
            <a:stretch/>
          </p:blipFill>
          <p:spPr>
            <a:xfrm>
              <a:off x="6735960" y="4213080"/>
              <a:ext cx="17928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SharePoint Team Services"/>
            <p:cNvPicPr/>
            <p:nvPr/>
          </p:nvPicPr>
          <p:blipFill>
            <a:blip r:embed="rId7"/>
            <a:srcRect l="11429" t="10076" r="83084" b="25819"/>
            <a:stretch/>
          </p:blipFill>
          <p:spPr>
            <a:xfrm>
              <a:off x="5832720" y="2625840"/>
              <a:ext cx="179280" cy="5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179280" y="1557360"/>
            <a:ext cx="661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Team-web for lagring av all prosjektinformasjon, kommunikasjon, kontakter, aktiviteter, arbeidsoppgaver og diskusj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360" y="22050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rale funksj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040" y="263700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lgjengeligh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7320" y="318780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ng av informasj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37400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arb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2926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eksib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59280" y="2997360"/>
            <a:ext cx="2529000" cy="1430280"/>
            <a:chOff x="4859280" y="2997360"/>
            <a:chExt cx="2529000" cy="1430280"/>
          </a:xfrm>
        </p:grpSpPr>
        <p:pic>
          <p:nvPicPr>
            <p:cNvPr id="177" name="" descr="Screen shot of SharePoint Team Services default home page"/>
            <p:cNvPicPr/>
            <p:nvPr/>
          </p:nvPicPr>
          <p:blipFill>
            <a:blip r:embed="rId8"/>
            <a:stretch/>
          </p:blipFill>
          <p:spPr>
            <a:xfrm>
              <a:off x="4859280" y="2997360"/>
              <a:ext cx="194472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9"/>
            <a:stretch/>
          </p:blipFill>
          <p:spPr>
            <a:xfrm>
              <a:off x="6083280" y="3646800"/>
              <a:ext cx="130500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5003640" y="2997360"/>
            <a:ext cx="1944720" cy="1511280"/>
            <a:chOff x="5003640" y="2997360"/>
            <a:chExt cx="1944720" cy="1511280"/>
          </a:xfrm>
        </p:grpSpPr>
        <p:pic>
          <p:nvPicPr>
            <p:cNvPr id="180" name="" descr="Screen shot of SharePoint Team Services default home page"/>
            <p:cNvPicPr/>
            <p:nvPr/>
          </p:nvPicPr>
          <p:blipFill>
            <a:blip r:embed="rId10"/>
            <a:stretch/>
          </p:blipFill>
          <p:spPr>
            <a:xfrm>
              <a:off x="5003640" y="2997360"/>
              <a:ext cx="194472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1"/>
            <a:stretch/>
          </p:blipFill>
          <p:spPr>
            <a:xfrm>
              <a:off x="5292720" y="3718080"/>
              <a:ext cx="129528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788000" y="2997360"/>
            <a:ext cx="2449440" cy="1377360"/>
            <a:chOff x="4788000" y="2997360"/>
            <a:chExt cx="2449440" cy="1377360"/>
          </a:xfrm>
        </p:grpSpPr>
        <p:pic>
          <p:nvPicPr>
            <p:cNvPr id="183" name="" descr="Screen shot of SharePoint Team Services default home page"/>
            <p:cNvPicPr/>
            <p:nvPr/>
          </p:nvPicPr>
          <p:blipFill>
            <a:blip r:embed="rId12"/>
            <a:stretch/>
          </p:blipFill>
          <p:spPr>
            <a:xfrm>
              <a:off x="5292720" y="2997360"/>
              <a:ext cx="194472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4788000" y="3479760"/>
              <a:ext cx="1143000" cy="89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068280"/>
            <a:ext cx="2663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85784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harePoint Portal Server and Team Services small, medium, and enterprise portal solutions "/>
          <p:cNvPicPr/>
          <p:nvPr/>
        </p:nvPicPr>
        <p:blipFill>
          <a:blip r:embed="rId1"/>
          <a:stretch/>
        </p:blipFill>
        <p:spPr>
          <a:xfrm>
            <a:off x="5796000" y="1989000"/>
            <a:ext cx="3170160" cy="3162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87240" y="112536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en vi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SharePoint Team Services"/>
          <p:cNvPicPr/>
          <p:nvPr/>
        </p:nvPicPr>
        <p:blipFill>
          <a:blip r:embed="rId2"/>
          <a:stretch/>
        </p:blipFill>
        <p:spPr>
          <a:xfrm>
            <a:off x="179280" y="981000"/>
            <a:ext cx="2381400" cy="571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This site is powered by Content Management Server 2001"/>
          <p:cNvPicPr/>
          <p:nvPr/>
        </p:nvPicPr>
        <p:blipFill>
          <a:blip r:embed="rId3"/>
          <a:srcRect l="0" t="33372" r="0" b="0"/>
          <a:stretch/>
        </p:blipFill>
        <p:spPr>
          <a:xfrm>
            <a:off x="7164360" y="1268280"/>
            <a:ext cx="16318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Learn about Microsoft Project 2002"/>
          <p:cNvPicPr/>
          <p:nvPr/>
        </p:nvPicPr>
        <p:blipFill>
          <a:blip r:embed="rId4"/>
          <a:stretch/>
        </p:blipFill>
        <p:spPr>
          <a:xfrm>
            <a:off x="6156360" y="1341360"/>
            <a:ext cx="622440" cy="5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2060640"/>
            <a:ext cx="374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Integrasjon med Sharepoint Porta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Integrert med Project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Integrert med framtidige serverløsninger og applikasjo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303000"/>
            <a:ext cx="41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The next version of SharePoint utilizes the application server technologies in Windows® .NET Server to deliver a robust portal and collaboration framework based on 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Microsoft® .NET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. SharePoint Portal Server and SharePoint Team Services will be tightly integrated, providing a unified environment that connects users to information, enterprise applications and collaborative tools throughout the enterprise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997360"/>
            <a:ext cx="2448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rin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Hjem"/>
          <p:cNvPicPr/>
          <p:nvPr/>
        </p:nvPicPr>
        <p:blipFill>
          <a:blip r:embed="rId1"/>
          <a:stretch/>
        </p:blipFill>
        <p:spPr>
          <a:xfrm>
            <a:off x="4002120" y="3129120"/>
            <a:ext cx="704880" cy="2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435640" y="3121200"/>
          <a:ext cx="1368360" cy="45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3121200"/>
                    <a:ext cx="1368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rin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nkelt å følge framdrif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KTR-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framdrif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Dokumentasj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fungerer godt som oppslag for prosjektmedarbeider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Informasjonsde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fungerer godt å lage ad hoc-li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Samhandl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diskusjoner blir ikke benytt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-post benyttes ”i tilfelle man ikke har abonnert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økt fokus på koordinering og integrasjon av alle deltak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nklere gjenfinning av informasj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edre oversikt over stat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større tilfredshet hos ABB og NettSpesialist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rfa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467800" y="836640"/>
            <a:ext cx="3687480" cy="5284800"/>
            <a:chOff x="2467800" y="836640"/>
            <a:chExt cx="3687480" cy="52848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0" r="0" b="6460"/>
            <a:stretch/>
          </p:blipFill>
          <p:spPr>
            <a:xfrm>
              <a:off x="2668680" y="836640"/>
              <a:ext cx="339876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467800" y="5753160"/>
              <a:ext cx="36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nb-NO" sz="1800" spc="-1" strike="noStrike">
                  <a:solidFill>
                    <a:srgbClr val="000000"/>
                  </a:solidFill>
                  <a:latin typeface="Arial"/>
                </a:rPr>
                <a:t>and you think you have st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600" y="2706840"/>
            <a:ext cx="885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jeg var barn var jeg forelsket i en p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vi var sammen hver d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en dag kom det to gutter med en elektrisk lekeb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30520" y="5950080"/>
            <a:ext cx="79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dd Nerd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ABB Monitoring and Alarm System (AM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Prosjektgjennomføring – avanserte vs. enkle modeller til enkle verktø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Erfarin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997360"/>
            <a:ext cx="8496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Arial"/>
              </a:rPr>
              <a:t>ABB Alarm and Monitoring System (AM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851280" cy="32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92360" y="3429000"/>
          <a:ext cx="3095640" cy="231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429000"/>
                    <a:ext cx="309564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BB Monitor and Alarm System (AM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268280"/>
          <a:ext cx="893880" cy="100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268280"/>
                    <a:ext cx="8938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4000" y="1197000"/>
          <a:ext cx="917280" cy="115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197000"/>
                    <a:ext cx="917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32000" y="2060640"/>
          <a:ext cx="431640" cy="38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060640"/>
                    <a:ext cx="4316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484360" y="1484280"/>
            <a:ext cx="566640" cy="995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611280" y="1341360"/>
            <a:ext cx="56664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340000" y="4005360"/>
          <a:ext cx="1800360" cy="13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40000" y="4005360"/>
                    <a:ext cx="18003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451640" y="1557360"/>
          <a:ext cx="936720" cy="1152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51640" y="1557360"/>
                    <a:ext cx="936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5580000" y="3068640"/>
            <a:ext cx="1081080" cy="70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5796000" y="1413000"/>
            <a:ext cx="108108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7451640" y="3645000"/>
            <a:ext cx="1295640" cy="974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6732720" y="4869000"/>
            <a:ext cx="46008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284720" y="1413000"/>
          <a:ext cx="934920" cy="1692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84720" y="1413000"/>
                    <a:ext cx="93492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5665200">
            <a:off x="5649840" y="2208240"/>
            <a:ext cx="868320" cy="719280"/>
          </a:xfrm>
          <a:custGeom>
            <a:avLst/>
            <a:gdLst>
              <a:gd name="textAreaLeft" fmla="*/ 135720 w 868320"/>
              <a:gd name="textAreaRight" fmla="*/ 759960 w 8683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771400">
            <a:off x="6748920" y="2392560"/>
            <a:ext cx="600120" cy="836640"/>
          </a:xfrm>
          <a:prstGeom prst="upDownArrow">
            <a:avLst>
              <a:gd name="adj1" fmla="val 50000"/>
              <a:gd name="adj2" fmla="val 277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3841800">
            <a:off x="6157080" y="4075560"/>
            <a:ext cx="860400" cy="719280"/>
          </a:xfrm>
          <a:custGeom>
            <a:avLst/>
            <a:gdLst>
              <a:gd name="textAreaLeft" fmla="*/ 134280 w 860400"/>
              <a:gd name="textAreaRight" fmla="*/ 753120 w 86040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88200">
            <a:off x="6804000" y="3357360"/>
            <a:ext cx="719280" cy="718920"/>
          </a:xfrm>
          <a:custGeom>
            <a:avLst/>
            <a:gdLst>
              <a:gd name="textAreaLeft" fmla="*/ 112320 w 719280"/>
              <a:gd name="textAreaRight" fmla="*/ 629640 w 71928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8000" y="2133720"/>
          <a:ext cx="432000" cy="387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08000" y="2133720"/>
                    <a:ext cx="432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58864E-006 C 0.04392 -0.01159 0.08837 -0.02272 0.08177 0.03986 C 0.07552 0.10243 -0.01858 0.31935 -0.03819 0.37566 E">
                                      <p:cBhvr>
                                        <p:cTn id="2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-0.00904 C -0.06997 0.03198 -0.09306 0.0737 -0.12326 0.1365 C -0.15347 0.19954 -0.21076 0.32885 -0.22847 0.36825 E">
                                      <p:cBhvr>
                                        <p:cTn id="4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38911 C 0.05 0.44913 0.12396 0.51032 0.19635 0.45887 C 0.26875 0.40788 0.37378 0.14624 0.4099 0.08436 E">
                                      <p:cBhvr>
                                        <p:cTn id="6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47 0.36825 C -0.16111 0.44125 -0.09323 0.51471 -0.02222 0.46234 C 0.04896 0.41043 0.16042 0.12329 0.19722 0.05585 E">
                                      <p:cBhvr>
                                        <p:cTn id="6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9 0.08435 C 0.47674 0.05052 0.54445 0.01691 0.60365 0.00857 C 0.6632 0.000229999999999999 0.73733 0.02873 0.76459 0.03314 E">
                                      <p:cBhvr>
                                        <p:cTn id="8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68360" y="4076640"/>
          <a:ext cx="96984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76640"/>
                    <a:ext cx="9698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900000" y="1052640"/>
            <a:ext cx="7272360" cy="529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BB Monitor and Alarm System (AM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2997360"/>
            <a:ext cx="8496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jektgjennomføring – avanserte vs. enkle modeller til enkle verktø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562560" cy="410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993240"/>
            <a:ext cx="8496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handling og kommunikasj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6444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Prosjektgjennomfø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0200" y="2276640"/>
            <a:ext cx="2500560" cy="2881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234936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nge opp kul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ære av andres kunnsk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01336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 kunnskap og erfar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75588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r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skj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7600" y="29242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y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4160" y="2924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9080" y="29242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ak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8472 -0.08165 -0.16945 -0.16331 -0.27292 -0.18505 C -0.37639 -0.2068 -0.5632 -0.13902 -0.62118 -0.13023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318 C -0.14896 -0.06615 -0.29844 -0.1189 -0.42066 -0.10571 C -0.54289 -0.09253 -0.68178 0.03817 -0.73247 0.06662 E">
                                      <p:cBhvr>
                                        <p:cTn id="13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00023E-006 C -0.15851 0.01897 -0.31632 0.0384 -0.44914 0.08166 C -0.58195 0.12468 -0.73907 0.22947 -0.79688 0.25885 E">
                                      <p:cBhvr>
                                        <p:cTn id="15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6:54:59Z</dcterms:created>
  <dc:creator>Tore Wersland</dc:creator>
  <dc:description/>
  <dc:language>en-US</dc:language>
  <cp:lastModifiedBy>Martin Reime</cp:lastModifiedBy>
  <dcterms:modified xsi:type="dcterms:W3CDTF">2002-06-02T16:46:37Z</dcterms:modified>
  <cp:revision>59</cp:revision>
  <dc:subject/>
  <dc:title>Utnytt mulighetene – hjelpemidler i gjennomføring av prosjektarbeid. </dc:title>
</cp:coreProperties>
</file>