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3217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128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040" y="11426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1560" y="11426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3217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6040" y="33217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1560" y="33217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96800" y="218880"/>
            <a:ext cx="6505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128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33217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520" y="33217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52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128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46040" y="11426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11560" y="11426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520" y="33217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46040" y="33217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11560" y="33217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96800" y="218880"/>
            <a:ext cx="6505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1280" y="33217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1280" y="11426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3217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568440" y="6111000"/>
            <a:ext cx="1412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000" spc="-1" strike="noStrike">
                <a:solidFill>
                  <a:srgbClr val="010307"/>
                </a:solidFill>
                <a:latin typeface="Arial"/>
              </a:rPr>
              <a:t>ABB AS   - </a:t>
            </a:r>
            <a:fld id="{5820CB67-4FFB-47F5-BCCB-5170DC0008A7}" type="slidenum">
              <a:rPr b="0" lang="en-US" sz="1000" spc="-1" strike="noStrike">
                <a:solidFill>
                  <a:srgbClr val="01030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763560"/>
            <a:ext cx="8810640" cy="1954080"/>
            <a:chOff x="0" y="763560"/>
            <a:chExt cx="8810640" cy="1954080"/>
          </a:xfrm>
        </p:grpSpPr>
        <p:sp>
          <p:nvSpPr>
            <p:cNvPr id="4" name=""/>
            <p:cNvSpPr/>
            <p:nvPr/>
          </p:nvSpPr>
          <p:spPr>
            <a:xfrm>
              <a:off x="0" y="763560"/>
              <a:ext cx="8804160" cy="0"/>
            </a:xfrm>
            <a:prstGeom prst="line">
              <a:avLst/>
            </a:prstGeom>
            <a:ln w="19080">
              <a:solidFill>
                <a:srgbClr val="5c65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810640" y="763560"/>
              <a:ext cx="0" cy="1954080"/>
            </a:xfrm>
            <a:prstGeom prst="line">
              <a:avLst/>
            </a:prstGeom>
            <a:ln w="19080">
              <a:solidFill>
                <a:srgbClr val="5c65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4800" y="5970600"/>
            <a:ext cx="1185840" cy="466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1905120" cy="762120"/>
          </a:xfrm>
          <a:prstGeom prst="rect">
            <a:avLst/>
          </a:prstGeom>
          <a:solidFill>
            <a:srgbClr val="5c6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44000" bIns="360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 baseline="30000">
                <a:solidFill>
                  <a:srgbClr val="ffffff"/>
                </a:solidFill>
                <a:latin typeface="Arial"/>
              </a:rPr>
              <a:t>Divisj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 baseline="30000">
                <a:solidFill>
                  <a:srgbClr val="ffffff"/>
                </a:solidFill>
                <a:latin typeface="Arial"/>
              </a:rPr>
              <a:t>Prosessindus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306440" y="0"/>
            <a:ext cx="789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4800" y="5970600"/>
            <a:ext cx="1185840" cy="46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10080" y="205704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-19080"/>
            <a:ext cx="0" cy="4732200"/>
          </a:xfrm>
          <a:prstGeom prst="line">
            <a:avLst/>
          </a:prstGeom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6520" y="-19080"/>
            <a:ext cx="0" cy="4740480"/>
          </a:xfrm>
          <a:prstGeom prst="line">
            <a:avLst/>
          </a:prstGeom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46440" y="3989520"/>
            <a:ext cx="1717560" cy="733320"/>
          </a:xfrm>
          <a:prstGeom prst="rect">
            <a:avLst/>
          </a:prstGeom>
          <a:solidFill>
            <a:srgbClr val="5c65c2"/>
          </a:solidFill>
          <a:ln w="1260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85120" y="3989520"/>
            <a:ext cx="0" cy="2849400"/>
          </a:xfrm>
          <a:prstGeom prst="line">
            <a:avLst/>
          </a:prstGeom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691480" y="3990960"/>
            <a:ext cx="0" cy="735120"/>
          </a:xfrm>
          <a:prstGeom prst="line">
            <a:avLst/>
          </a:prstGeom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560160" y="5961600"/>
            <a:ext cx="15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000" spc="-1" strike="noStrike">
                <a:solidFill>
                  <a:srgbClr val="010307"/>
                </a:solidFill>
                <a:latin typeface="Arial"/>
              </a:rPr>
              <a:t>© ABB AS - </a:t>
            </a:r>
            <a:fld id="{F61C2D8A-D63C-4869-9862-4EDDC3F25DAE}" type="slidenum">
              <a:rPr b="0" lang="en-US" sz="1000" spc="-1" strike="noStrike">
                <a:solidFill>
                  <a:srgbClr val="010307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10307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sv-SE" sz="1000" spc="-1" strike="noStrike">
                <a:solidFill>
                  <a:srgbClr val="010307"/>
                </a:solidFill>
                <a:latin typeface="Arial"/>
              </a:rPr>
              <a:t>01.03.2002  -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1087" t="1740" r="1001" b="0"/>
          <a:stretch/>
        </p:blipFill>
        <p:spPr>
          <a:xfrm>
            <a:off x="241200" y="3989520"/>
            <a:ext cx="1603440" cy="725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984480"/>
            <a:ext cx="9144000" cy="0"/>
          </a:xfrm>
          <a:prstGeom prst="line">
            <a:avLst/>
          </a:prstGeom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7240" y="2136600"/>
            <a:ext cx="1766880" cy="2587680"/>
          </a:xfrm>
          <a:prstGeom prst="rect">
            <a:avLst/>
          </a:prstGeom>
          <a:noFill/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9080">
            <a:solidFill>
              <a:srgbClr val="5c6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573360" y="2144880"/>
            <a:ext cx="1755720" cy="257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93040" y="3990960"/>
            <a:ext cx="2090520" cy="727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9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9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10080" y="205704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Prosjekt IT agenter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ivisjon Prosessindus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retningsområde O&amp;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Bernt El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Nettspesialisten, modell og verktø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BB’s prosjekt for IT-agenter har gitt økt kompet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sjektmodell, KTR (Kost Tid Ress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lanle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ppføl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Verktø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MAS, Tea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BB i Nor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2080" y="1143000"/>
            <a:ext cx="8195400" cy="671040"/>
            <a:chOff x="262080" y="1143000"/>
            <a:chExt cx="8195400" cy="671040"/>
          </a:xfrm>
        </p:grpSpPr>
        <p:grpSp>
          <p:nvGrpSpPr>
            <p:cNvPr id="102" name=""/>
            <p:cNvGrpSpPr/>
            <p:nvPr/>
          </p:nvGrpSpPr>
          <p:grpSpPr>
            <a:xfrm>
              <a:off x="262080" y="1143000"/>
              <a:ext cx="8195400" cy="671040"/>
              <a:chOff x="262080" y="1143000"/>
              <a:chExt cx="8195400" cy="671040"/>
            </a:xfrm>
          </p:grpSpPr>
          <p:sp>
            <p:nvSpPr>
              <p:cNvPr id="103" name=""/>
              <p:cNvSpPr/>
              <p:nvPr/>
            </p:nvSpPr>
            <p:spPr>
              <a:xfrm>
                <a:off x="262080" y="1143000"/>
                <a:ext cx="1363320" cy="671040"/>
              </a:xfrm>
              <a:prstGeom prst="rect">
                <a:avLst/>
              </a:prstGeom>
              <a:solidFill>
                <a:srgbClr val="f4d20a"/>
              </a:solidFill>
              <a:ln w="0">
                <a:noFill/>
              </a:ln>
              <a:effectLst>
                <a:outerShdw dist="81185" dir="2321969" blurRad="0" rotWithShape="0">
                  <a:srgbClr val="6b82d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4240" y="1143000"/>
                <a:ext cx="5491080" cy="671040"/>
              </a:xfrm>
              <a:prstGeom prst="rect">
                <a:avLst/>
              </a:prstGeom>
              <a:solidFill>
                <a:srgbClr val="f4af16"/>
              </a:solidFill>
              <a:ln w="0">
                <a:noFill/>
              </a:ln>
              <a:effectLst>
                <a:outerShdw dist="81185" dir="2321969" blurRad="0" rotWithShape="0">
                  <a:srgbClr val="6b82d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87680" y="1143000"/>
                <a:ext cx="1369800" cy="671040"/>
              </a:xfrm>
              <a:prstGeom prst="rect">
                <a:avLst/>
              </a:prstGeom>
              <a:solidFill>
                <a:srgbClr val="f4d20a"/>
              </a:solidFill>
              <a:ln w="0">
                <a:noFill/>
              </a:ln>
              <a:effectLst>
                <a:outerShdw dist="81185" dir="2321969" blurRad="0" rotWithShape="0">
                  <a:srgbClr val="6b82d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640160" y="1229040"/>
              <a:ext cx="5436360" cy="5508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3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94040" y="1859040"/>
            <a:ext cx="1291680" cy="1632960"/>
            <a:chOff x="1994040" y="1859040"/>
            <a:chExt cx="1291680" cy="1632960"/>
          </a:xfrm>
        </p:grpSpPr>
        <p:sp>
          <p:nvSpPr>
            <p:cNvPr id="108" name=""/>
            <p:cNvSpPr/>
            <p:nvPr/>
          </p:nvSpPr>
          <p:spPr>
            <a:xfrm>
              <a:off x="1994040" y="1859040"/>
              <a:ext cx="1291680" cy="1632960"/>
            </a:xfrm>
            <a:custGeom>
              <a:avLst/>
              <a:gdLst/>
              <a:ahLst/>
              <a:rect l="l" t="t" r="r" b="b"/>
              <a:pathLst>
                <a:path w="784" h="992">
                  <a:moveTo>
                    <a:pt x="0" y="328"/>
                  </a:moveTo>
                  <a:lnTo>
                    <a:pt x="376" y="0"/>
                  </a:lnTo>
                  <a:lnTo>
                    <a:pt x="784" y="320"/>
                  </a:lnTo>
                  <a:lnTo>
                    <a:pt x="784" y="992"/>
                  </a:lnTo>
                  <a:lnTo>
                    <a:pt x="0" y="992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5b9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17800" y="2632680"/>
              <a:ext cx="12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Energ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4320" y="1874880"/>
            <a:ext cx="1512360" cy="1630080"/>
            <a:chOff x="3424320" y="1874880"/>
            <a:chExt cx="1512360" cy="1630080"/>
          </a:xfrm>
        </p:grpSpPr>
        <p:sp>
          <p:nvSpPr>
            <p:cNvPr id="111" name=""/>
            <p:cNvSpPr/>
            <p:nvPr/>
          </p:nvSpPr>
          <p:spPr>
            <a:xfrm>
              <a:off x="3552480" y="1874880"/>
              <a:ext cx="1287720" cy="1630080"/>
            </a:xfrm>
            <a:custGeom>
              <a:avLst/>
              <a:gdLst/>
              <a:ahLst/>
              <a:rect l="l" t="t" r="r" b="b"/>
              <a:pathLst>
                <a:path w="784" h="992">
                  <a:moveTo>
                    <a:pt x="0" y="328"/>
                  </a:moveTo>
                  <a:lnTo>
                    <a:pt x="376" y="0"/>
                  </a:lnTo>
                  <a:lnTo>
                    <a:pt x="784" y="320"/>
                  </a:lnTo>
                  <a:lnTo>
                    <a:pt x="784" y="992"/>
                  </a:lnTo>
                  <a:lnTo>
                    <a:pt x="0" y="992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5b9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4320" y="2535120"/>
              <a:ext cx="151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ffffff"/>
                  </a:solidFill>
                  <a:latin typeface="Arial"/>
                </a:rPr>
                <a:t>Olj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ffffff"/>
                  </a:solidFill>
                  <a:latin typeface="Arial"/>
                </a:rPr>
                <a:t>gass 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ffffff"/>
                  </a:solidFill>
                  <a:latin typeface="Arial"/>
                </a:rPr>
                <a:t>petrokje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143080" y="3584520"/>
            <a:ext cx="7002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6320" y="3689280"/>
            <a:ext cx="7002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7760" y="3795840"/>
            <a:ext cx="698760" cy="24264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47760" y="3900600"/>
            <a:ext cx="698760" cy="24264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1000" y="3576600"/>
            <a:ext cx="7002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24240" y="3681360"/>
            <a:ext cx="6984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25680" y="3786120"/>
            <a:ext cx="69876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25680" y="3892680"/>
            <a:ext cx="698760" cy="24264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4480" y="3576600"/>
            <a:ext cx="69984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27720" y="3681360"/>
            <a:ext cx="6984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3786120"/>
            <a:ext cx="69984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7720" y="3892680"/>
            <a:ext cx="699840" cy="24264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2680" y="3576600"/>
            <a:ext cx="7002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5920" y="3681360"/>
            <a:ext cx="7002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97360" y="3786120"/>
            <a:ext cx="700200" cy="24300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97360" y="3892680"/>
            <a:ext cx="700200" cy="242640"/>
          </a:xfrm>
          <a:custGeom>
            <a:avLst/>
            <a:gdLst/>
            <a:ahLst/>
            <a:rect l="l" t="t" r="r" b="b"/>
            <a:pathLst>
              <a:path w="713" h="246">
                <a:moveTo>
                  <a:pt x="0" y="175"/>
                </a:moveTo>
                <a:lnTo>
                  <a:pt x="342" y="0"/>
                </a:lnTo>
                <a:lnTo>
                  <a:pt x="713" y="174"/>
                </a:lnTo>
                <a:lnTo>
                  <a:pt x="713" y="243"/>
                </a:lnTo>
                <a:lnTo>
                  <a:pt x="344" y="73"/>
                </a:lnTo>
                <a:lnTo>
                  <a:pt x="0" y="246"/>
                </a:lnTo>
                <a:lnTo>
                  <a:pt x="0" y="17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  <a:effectLst>
            <a:outerShdw dist="28496" dir="9225519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079960" y="1874880"/>
            <a:ext cx="1429920" cy="1631520"/>
            <a:chOff x="5079960" y="1874880"/>
            <a:chExt cx="1429920" cy="1631520"/>
          </a:xfrm>
        </p:grpSpPr>
        <p:sp>
          <p:nvSpPr>
            <p:cNvPr id="130" name=""/>
            <p:cNvSpPr/>
            <p:nvPr/>
          </p:nvSpPr>
          <p:spPr>
            <a:xfrm>
              <a:off x="5124600" y="1874880"/>
              <a:ext cx="1288440" cy="1631520"/>
            </a:xfrm>
            <a:custGeom>
              <a:avLst/>
              <a:gdLst/>
              <a:ahLst/>
              <a:rect l="l" t="t" r="r" b="b"/>
              <a:pathLst>
                <a:path w="784" h="992">
                  <a:moveTo>
                    <a:pt x="0" y="328"/>
                  </a:moveTo>
                  <a:lnTo>
                    <a:pt x="376" y="0"/>
                  </a:lnTo>
                  <a:lnTo>
                    <a:pt x="784" y="320"/>
                  </a:lnTo>
                  <a:lnTo>
                    <a:pt x="784" y="992"/>
                  </a:lnTo>
                  <a:lnTo>
                    <a:pt x="0" y="992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79960" y="262548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Indust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0680" y="1841400"/>
            <a:ext cx="3770280" cy="3454560"/>
          </a:xfrm>
          <a:custGeom>
            <a:avLst/>
            <a:gdLst/>
            <a:ahLst/>
            <a:rect l="l" t="t" r="r" b="b"/>
            <a:pathLst>
              <a:path w="2550" h="2154">
                <a:moveTo>
                  <a:pt x="0" y="330"/>
                </a:moveTo>
                <a:lnTo>
                  <a:pt x="378" y="0"/>
                </a:lnTo>
                <a:lnTo>
                  <a:pt x="786" y="312"/>
                </a:lnTo>
                <a:lnTo>
                  <a:pt x="786" y="1512"/>
                </a:lnTo>
                <a:lnTo>
                  <a:pt x="2550" y="1514"/>
                </a:lnTo>
                <a:lnTo>
                  <a:pt x="2550" y="2154"/>
                </a:lnTo>
                <a:lnTo>
                  <a:pt x="0" y="2154"/>
                </a:lnTo>
                <a:lnTo>
                  <a:pt x="0" y="33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round/>
          </a:ln>
          <a:effectLst>
            <a:outerShdw dist="64600" dir="4725161" blurRad="0" rotWithShape="0">
              <a:srgbClr val="6b82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3400" y="1841400"/>
            <a:ext cx="3622680" cy="3454560"/>
          </a:xfrm>
          <a:custGeom>
            <a:avLst/>
            <a:gdLst/>
            <a:ahLst/>
            <a:rect l="l" t="t" r="r" b="b"/>
            <a:pathLst>
              <a:path w="2520" h="2154">
                <a:moveTo>
                  <a:pt x="2520" y="330"/>
                </a:moveTo>
                <a:lnTo>
                  <a:pt x="2142" y="0"/>
                </a:lnTo>
                <a:lnTo>
                  <a:pt x="1734" y="312"/>
                </a:lnTo>
                <a:lnTo>
                  <a:pt x="1734" y="1512"/>
                </a:lnTo>
                <a:lnTo>
                  <a:pt x="0" y="1514"/>
                </a:lnTo>
                <a:lnTo>
                  <a:pt x="0" y="2154"/>
                </a:lnTo>
                <a:lnTo>
                  <a:pt x="2520" y="2154"/>
                </a:lnTo>
                <a:lnTo>
                  <a:pt x="2520" y="33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round/>
          </a:ln>
          <a:effectLst>
            <a:outerShdw dist="64600" dir="4725161" blurRad="0" rotWithShape="0">
              <a:srgbClr val="6b82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040" y="24382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ffffff"/>
                </a:solidFill>
                <a:latin typeface="Arial"/>
              </a:rPr>
              <a:t>Eks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ffffff"/>
                </a:solidFill>
                <a:latin typeface="Arial"/>
              </a:rPr>
              <a:t>partn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8120" y="2454120"/>
            <a:ext cx="116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ffffff"/>
                </a:solidFill>
                <a:latin typeface="Arial"/>
              </a:rPr>
              <a:t>Eks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ffffff"/>
                </a:solidFill>
                <a:latin typeface="Arial"/>
              </a:rPr>
              <a:t>partn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1920" y="4417920"/>
            <a:ext cx="30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ffffff"/>
                </a:solidFill>
                <a:latin typeface="Arial"/>
              </a:rPr>
              <a:t>Kraftproduk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49720" y="4432320"/>
            <a:ext cx="36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ffffff"/>
                </a:solidFill>
                <a:latin typeface="Arial"/>
              </a:rPr>
              <a:t>Automasjonsproduk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77000" y="1828800"/>
            <a:ext cx="355320" cy="3487320"/>
            <a:chOff x="7677000" y="1828800"/>
            <a:chExt cx="355320" cy="3487320"/>
          </a:xfrm>
        </p:grpSpPr>
        <p:sp>
          <p:nvSpPr>
            <p:cNvPr id="139" name=""/>
            <p:cNvSpPr/>
            <p:nvPr/>
          </p:nvSpPr>
          <p:spPr>
            <a:xfrm>
              <a:off x="7681680" y="2289600"/>
              <a:ext cx="350640" cy="3026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77000" y="1828800"/>
              <a:ext cx="352080" cy="469080"/>
            </a:xfrm>
            <a:custGeom>
              <a:avLst/>
              <a:gdLst/>
              <a:ahLst/>
              <a:rect l="l" t="t" r="r" b="b"/>
              <a:pathLst>
                <a:path w="419" h="564">
                  <a:moveTo>
                    <a:pt x="209" y="0"/>
                  </a:moveTo>
                  <a:lnTo>
                    <a:pt x="0" y="564"/>
                  </a:lnTo>
                  <a:lnTo>
                    <a:pt x="419" y="564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rot="5400000">
            <a:off x="7020360" y="3187800"/>
            <a:ext cx="178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000000"/>
                </a:solidFill>
                <a:latin typeface="Arial"/>
              </a:rPr>
              <a:t>Finanstjenes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058240" y="1828800"/>
            <a:ext cx="355320" cy="3490560"/>
            <a:chOff x="8058240" y="1828800"/>
            <a:chExt cx="355320" cy="3490560"/>
          </a:xfrm>
        </p:grpSpPr>
        <p:sp>
          <p:nvSpPr>
            <p:cNvPr id="143" name=""/>
            <p:cNvSpPr/>
            <p:nvPr/>
          </p:nvSpPr>
          <p:spPr>
            <a:xfrm>
              <a:off x="8063280" y="2289600"/>
              <a:ext cx="350280" cy="302976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58240" y="1828800"/>
              <a:ext cx="352440" cy="469800"/>
            </a:xfrm>
            <a:custGeom>
              <a:avLst/>
              <a:gdLst/>
              <a:ahLst/>
              <a:rect l="l" t="t" r="r" b="b"/>
              <a:pathLst>
                <a:path w="419" h="525">
                  <a:moveTo>
                    <a:pt x="209" y="0"/>
                  </a:moveTo>
                  <a:lnTo>
                    <a:pt x="0" y="525"/>
                  </a:lnTo>
                  <a:lnTo>
                    <a:pt x="419" y="52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rot="5400000">
            <a:off x="7214400" y="3296520"/>
            <a:ext cx="19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New Ventures Ltd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08160" y="3260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Leveringsomfang – systemer og løsni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04960" y="1066680"/>
            <a:ext cx="56386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formasjons- og ledelsessystemer, MES syst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ikkerhets- og automatiseringssyst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Posisjoneringssyst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El. kraftgenerering og distribusj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Ventilasjonssyst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strumenter og prosessanaly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Elektriske motorer og drivsyst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Azipod motor drivsyst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AC/DC Drilling drivsyst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elekommunikasj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UPS installasj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urbol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imulat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ikeret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Vedlike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971800" cy="2960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0040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65530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00400" y="8380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21240" y="3008160"/>
            <a:ext cx="2470320" cy="1704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019400" y="3814920"/>
            <a:ext cx="2345040" cy="17589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UTFORDRINGEN ! (bakgrun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tort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antall offshore plattformer og anleg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tort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antall ulike datamaskiner, Vax, Unix, NT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erviceavtaler med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kunder som inneholder responst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å fra reaktiv til PROAK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LØSNINGEN, IT Agen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ørste forsø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Benytte standard software fra noen av de store aktør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Utfordring, ikke fleksibelt nok til å dekke alle våre beho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Unix, NT, Vax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dulbasert prising 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for mye funksjonalit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Løs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kreddersøm fra Nettspesia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T ag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ver til Nettspesia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96800" y="218880"/>
            <a:ext cx="65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Prosjektmod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ra TOP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ptimization of Process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) til Forenklet K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tte forenkles for mindre prosjek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T agenter ble kjørt i med en forenklet modell hvor de viktigste elementene ble behol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osjektet ble brutt ned i aktiviteter med sin tilhørende KTR beskrivelse (Kost Tid Ress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5c65c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eget bra oppfølging av fremdrif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0600" y="1844640"/>
            <a:ext cx="83311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8:04:11Z</dcterms:created>
  <dc:creator>ABB</dc:creator>
  <dc:description/>
  <dc:language>en-US</dc:language>
  <cp:lastModifiedBy>Martin Reime</cp:lastModifiedBy>
  <cp:lastPrinted>2001-03-22T18:34:23Z</cp:lastPrinted>
  <dcterms:modified xsi:type="dcterms:W3CDTF">2002-06-02T16:46:53Z</dcterms:modified>
  <cp:revision>36</cp:revision>
  <dc:subject/>
  <dc:title>Strategy Use of Low Cost Engineering centers </dc:title>
</cp:coreProperties>
</file>