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052-6390-431C-91F6-A676EE3B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979-0305-4725-B2D9-2C463D2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E0B-294B-4449-B8D3-9C450F0C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6C1-BD4E-4BB4-8637-93210CC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81A-8C5B-4413-9EA5-5761FAF4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3C1-BE98-4B3F-BADA-2EB3B19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B84-4F22-4DBA-BAD0-9172E3C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BA2-C296-4F33-B623-BD34FE0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2440" y="736200"/>
            <a:ext cx="7797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F49-2D64-49E0-8175-D2EA82C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E41-489F-4BCF-A474-AC1952E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82B-A158-41A4-A89E-A0C219C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E3D-A773-415B-BFD3-8015F90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F45-8F4B-438F-8A8F-6D639512A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0"/>
          <a:ext cx="891540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8915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ettspes.no/" TargetMode="External"/><Relationship Id="rId2" Type="http://schemas.openxmlformats.org/officeDocument/2006/relationships/hyperlink" Target="mailto:dybvik@nettspes.no" TargetMode="External"/><Relationship Id="rId3" Type="http://schemas.openxmlformats.org/officeDocument/2006/relationships/hyperlink" Target="mailto:seim@nettspes.no" TargetMode="External"/><Relationship Id="rId4" Type="http://schemas.openxmlformats.org/officeDocument/2006/relationships/hyperlink" Target="mailto:jensen@nettspes.no" TargetMode="External"/><Relationship Id="rId5" Type="http://schemas.openxmlformats.org/officeDocument/2006/relationships/hyperlink" Target="mailto:hermansen@nettspes.no" TargetMode="External"/><Relationship Id="rId6" Type="http://schemas.openxmlformats.org/officeDocument/2006/relationships/hyperlink" Target="mailto:klemetsrud@nettspes.no" TargetMode="External"/><Relationship Id="rId7" Type="http://schemas.openxmlformats.org/officeDocument/2006/relationships/hyperlink" Target="mailto:gangsoy@nettspes.no" TargetMode="External"/><Relationship Id="rId8" Type="http://schemas.openxmlformats.org/officeDocument/2006/relationships/hyperlink" Target="mailto:rasmussen@nettspes.no" TargetMode="External"/><Relationship Id="rId9" Type="http://schemas.openxmlformats.org/officeDocument/2006/relationships/hyperlink" Target="mailto:bergh@nettspes.no" TargetMode="External"/><Relationship Id="rId10" Type="http://schemas.openxmlformats.org/officeDocument/2006/relationships/hyperlink" Target="mailto:solberg@nettspes.no" TargetMode="External"/><Relationship Id="rId1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2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Utfordringer og erfaringer med VP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63880"/>
            <a:ext cx="640080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ttanic - 30 mai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l 15:20 – 16: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ein Arild Dyb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. konsulent NettSpesialiste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CIE #1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Kryptering er en del av 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55640" y="1981080"/>
          <a:ext cx="57564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981080"/>
                    <a:ext cx="57564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560" y="4119480"/>
            <a:ext cx="72388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Dagens standarder: DES and Tripple-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Har vært brukt i over 20 år, CPU kr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AES overtar for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Ny kommende standard, mindre CPU krevende, lengre nø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Er ikke støttet i alt utstyr 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C66-9B0A-4E10-94B6-0A77E11BC0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IPSec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88840" y="1968480"/>
          <a:ext cx="755676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68480"/>
                    <a:ext cx="755676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6E1-660B-453C-83FF-5536CB69D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3960" y="7617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Transpor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5400" y="198108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Used for end-to-end communication between two hosts, i.e. when both ends of ”session” a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Protects the IP payload only, the original IP header remains unprote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29E-7606-482D-9799-D2FEFC2FF5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8800" y="79992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Tunnel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51040" y="2028960"/>
          <a:ext cx="7607160" cy="42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2028960"/>
                    <a:ext cx="7607160" cy="42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E28-AFF5-49AD-9C48-E81E301A18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761760"/>
            <a:ext cx="7721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Autentifisering – hvorfor trenger vi 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00200" y="3774600"/>
            <a:ext cx="775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Arial"/>
              </a:rPr>
              <a:t>Autentifisering mellom rutere / vpn hardwarebok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Hvordan vet Ruter A at den snakker med Ruter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000000"/>
                </a:solidFill>
                <a:latin typeface="Arial"/>
              </a:rPr>
              <a:t>Autentifisering av sluttbrukere inn mot vpn konsentrator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Hvordan vet VPN konsentrator hvem den slipper i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9760" y="1981080"/>
            <a:ext cx="5871960" cy="18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017-19A8-4FA5-AA1F-CD5308F5B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6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Autentifi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5000" y="1790280"/>
            <a:ext cx="76932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IPSec/IKE standard tar seg av authentifisering mellom to nettverksenheter gjennom bruk av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IP addresse / preshare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Public and Privat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Digitale sertifi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 praksis løses dette gjenn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utere / vpn enheter: Sertifikat eller preshared key genereres og lagres på selve enhet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obile brukere: Preshared key eller sertifikat brukes  kombinert med ACS server (radius/tacacs), gjerne koblet mot enganspassord / kalk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B: Bruk aldri kun NT brukerkey / pass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AAF-C5F8-49BC-87C5-CE3B311659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6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Digitale sertifi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03160" y="198108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Går god for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Avsender er den han hevder å væ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ertifikat tillater autentifisering som skale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16360" y="1413000"/>
          <a:ext cx="424836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413000"/>
                    <a:ext cx="424836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78C-3E15-45C6-87E8-520D93126F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8040" y="761760"/>
            <a:ext cx="7759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va inneholder et sertifi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6240" y="1905120"/>
            <a:ext cx="40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Digital Certificates cont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eri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Validity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Issuer’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Digital Certificates are signed by a CA (Certificate Author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F1F-3ECF-4B40-926F-B79370BA50B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Data integr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2440" y="1981080"/>
            <a:ext cx="478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Hvordan vet vi at data som kommer frem er nøyaktig det samme som ble send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Løses gjennom matematiske  algoritmer + digital signatures (MD5, </a:t>
            </a:r>
            <a:br>
              <a:rPr sz="2000"/>
            </a:b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SHA-1) av hele IPSec pa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ff0000"/>
                </a:solidFill>
                <a:latin typeface="Arial"/>
              </a:rPr>
              <a:t>NB: Siden IPSec sjekksummer hele IP pakken inklusive avsender og mottaker IP adresse, støtter ikke native IPSec hverken NAT eller P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9560" y="3176640"/>
          <a:ext cx="279864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560" y="3176640"/>
                    <a:ext cx="279864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92F-7771-4D3E-ACB2-2A2102D115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27280"/>
            <a:ext cx="748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a er et VPN / et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ikkert VP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PSec (kryptering, autentifisering, data integrit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Hva er utfordringer med VP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prioritering / sha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g Voice over I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med redundant ruting og backupsam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Klient sikkerhet for mobile bruk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M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is tid: Cisco VPN produ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53B-42B0-4578-9025-3C096B553125}" type="slidenum">
              <a:t>19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727280"/>
            <a:ext cx="748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va er et VPN / et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sikkert VP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PSec (kryptering, autentifisering, data integrit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Hva er utfordringer med VP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prioritering / sha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g Voice over I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med redundant ruting og backupsam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Klient sikkerhet for mobile bruk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M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is tid: Cisco VPN produ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12D-CA01-450A-AC6A-81911F973D7A}" type="slidenum">
              <a:t>2</a:t>
            </a:fld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RE (Generic Route Encaps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Protokoll for å tunnelere andre protokoller over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Gammel, har eksistert og </a:t>
            </a:r>
            <a:r>
              <a:rPr b="0" lang="nb-NO" sz="2200" spc="-1" strike="noStrike" u="sng">
                <a:solidFill>
                  <a:srgbClr val="000000"/>
                </a:solidFill>
                <a:uFillTx/>
                <a:latin typeface="Arial"/>
              </a:rPr>
              <a:t>fungert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 bra veldig le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Gir virtuelle punkt til punkt interface på routere, med alle muligheter som virkelige fysiske interface 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GRE støtter alle viktige rutingprotokoller som IGRP, EIGRP, OSPF, BG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GRE kan gjerne brukes til å lage et VPN alene dersom en kun trenger isolasjon av trafikk over et ekstran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ff0000"/>
                </a:solidFill>
                <a:latin typeface="Arial"/>
              </a:rPr>
              <a:t>Brukt sammen med IPSec gir GRE en komplett løsning for VPN over åpne nett, forenkler administrasjon og tilfører redundans gjennom rutingprotokoll støt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1C8-101E-432F-BE62-466AA7C67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RE (Generic Route Encaps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58800" y="2000160"/>
          <a:ext cx="75834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2000160"/>
                    <a:ext cx="75834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51D-898D-4F59-BBFF-1939504129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RE (Generic Route Encaps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RE pakker inn også andre protokoller enn IP, dvs man kan bruker GRE til transport også av Decnet / Novell IPX / bridging / 3270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77880" y="3168720"/>
          <a:ext cx="734364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3168720"/>
                    <a:ext cx="7343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D77-8578-4557-96A6-F60FEAD9D4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va er utfordringer ved VP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VPN over internet – prioritering / sha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VPN og Voice over 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med redundant ruting og backupsam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lient sikkerhet for mobile bruk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PN klienter og M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PN klienter og N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0D0-3DDA-4801-B025-EE2A536182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Utfordr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ordan få beste ruting mellom kontorstedene over interne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ordan unngå ruting gjennom NIX Norge / Skandinavia / Europa eller backbone USA for ”lokal trafikk”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Løsning: Bestill alle internett-forbindelser fra samme I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lere ISP kan tilby ”Gold” avtale med garantert latency og yt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oen ISP har begynt å honorere preference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isco har startet med sertifiseringsregler for ISP som støtter preference-bit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Powered Network designation, "Multiservice VPN“, Sprint første godkj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1C4-1516-40DF-9DFA-95982BCA48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For mobile VPN brukere og hjemmebrukere har man liten kontroll med hvilken ISP de bru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urder å sette opp hovedkontor med 2 forskjellige ISP mot internet, da er sjansen stor for at hvertfall en av dem har brukelig samtrafikkavtale og kapas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ager man hjemmekontorløsning vil det være en stor fordel om alle henger på samme ISP, og da bør også bedriftens VPN konsentrator ha internet via samme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Brukes ISP som honorerer preference bit? Det er mulig å sette preference i registry på Windows 2000/XP klienter (kan også forkludre mye hvis ikke gjennomført re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59D-7F85-4B76-BDA1-7F9A49CECD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rioritering / shaping VPN lokal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Hvor er flaskehalsen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Tas VPN trafikk inn sammen med øvrig internett trafikk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ordan sikre at denne ikke forstyrrer VPN trafik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Webtrafikk tar gjerne all tilgjengelig kapasitet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fte langt bedre kapasitet internt hos ISP og det største problemet er gjerne at bedriftens egen link er overlas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Løsning på overlastet linje mot ISP 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dikerte linje(r) mot internet for VPN trafik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å ISP til å prioritere det som sendes ned på link (vanskel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Shaping av inngående og prioritering av utgående trafikk er en bra løs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B79-715B-4507-9C4E-6723DBBB27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empel på shaping av internet trafikk slik at det reserveres kapasitet til V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ordan virker shap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i kan ikke påvirke eller prioritere det som sendes til oss fra IS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Løsningen er å shape trafikk når den har kommet fr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Shaping vil alltid si å bremse eller kaste noe trafikk, slik at det blir ledig kapasitet til at ønsket trafikk skal komme fr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Shaping kan også brukes på utgående trafik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raffic-shape gjennom rat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Defineres ved å gruppere trafikk som kan matches ved access-lister (source, destination, portnummer, preference, .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Legge på regler for hvor mye trafikk hver gruppe skal få lov å bruke av innkommende og/eller utgående kapasit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Med traffic-shape i innkommende retning skal man aldri klare å bruke 100% av kapasiteten på linjen, da er det feildefin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D29-D20B-4ED5-8BDD-406984A6A3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empel på shaping av internet trafikk slik at det reserveres kapasitet til V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isco ruter med 10/155 Mbps mot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nterface ATM6/0.116 point-to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escription INET VCC/0.116, PCR 353207, SCR 26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p address 212.125.255.254 255.255.255.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rate-limit input access-gr 188 5242000 conform-act transmit exce-act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rate-limit input access-gr 189 1024000 conform-act transmit exce-act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tm pvc 1 0 116 aal5snap 10000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88 remark Traffic from ANY to VPN, shaped to use max 5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88 permit ip any host svg-pix53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89 remark Everything else, shaped to use max 1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89 permit ip 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6D6-0438-436B-9C51-28D9EAD229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empel på prioritering av internet trafikk slik at det reserveres kapasitet til V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ordan virker priorit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Prioritering kan brukes på utgående trafik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Grupperer trafikk og hvilken rekkefølge/kapasitet den skal få ut på link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ioritering gjennom PQ (råest, ikke nødvendigvis b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Kategoriserer trafikk i køer ”High”, ”Medium”, ”Normal” og ”Low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Trafikk kategoriseres ved access-lister basert på source, destination, portnummer, preference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Slås på på utgående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Med prioritering utgående er det helt ok å fylle 100% av kapasiteten på linjen, ”all” viktig trafikk går alltid fø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C99-1169-4D8C-BBA4-570DD317B4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5880" y="761760"/>
            <a:ext cx="758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va er VP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1040" y="1739880"/>
            <a:ext cx="79120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Kommunikasjon basert på delt infrastruktur, med minst like bra ytelse, sikkerhet og kontroll som i et privat nettve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Ønsket med VPN er primært å redusere kostnader der det erstatter faste linjer, og ivareta sikkerhet for mobile bruk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6760" y="3487680"/>
            <a:ext cx="773748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FE1-9C41-4BFC-89E4-B9CB5C60F0CA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empel på prioritering av internet trafikk slik at det reserveres kapasitet til VP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196812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isco ruter med 2 mbps link mot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nterface serial 5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escription INET 1984kbps, Samb: TeleDK/F000000-34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ip address 212.125.255.254 255.255.255.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ority-grou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71 remark High Queue: Traffic from VPN to 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71 permit ip host svg-vpn3030a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72 remark Medium Queue: telnet / ica (kun telnet v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list 172 permit tcp any any eq 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list 5 protocol ip high list 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list 5 protocol ip medium list 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list 5 defaul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list 5 queue-limit 20 40 40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999-52B6-458C-9186-3F8E55FFE3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Det er en vinnerkombinasjon å kombinere GRE med IPSec i prak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RE for rutingprotokoller, mulitcast, multiprotok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PSec for kryptert overføring og identifisering av endepu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 praksis kan 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jerne kjøre GRE fra en ”innside ruter” gjennom en VPN enhet som legger på IPSec ut på åpent n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ller kjøre både GRE og IPSec fra samme r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ller kombinasjon med GRE på ruter + IPSec på konsentrator på HQ og både GRE og IPSec på samme ruter på mindre kon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0B7-E3FC-4FC0-8A0F-258E9728C6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RE over IPSec  (router til ro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38736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Definerer GRE tunn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unne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IP/GRE tunnel to Stockhol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address 10.255.0.253 255.255.255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tunnel path-mtu-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nnel source 212.125.1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nnel destination 63.255.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nnel sequence-data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rypto map HQ-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3480" y="175212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rer IPSec for encapsuler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pto isakmp policy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pre-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pto isakmp key ******** address 63.255.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pto ipsec transform-set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q-tset esp-des esp-sha-h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pto map HQ-VPN local-address Serial0/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pto map HQ-VPN 11 ipsec-isak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IPSec for encapsulering av G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eer 63.255.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security-association level per-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security-association lifetime seconds 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transform-set hq-t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 address 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-list 123 permit ip host 212.125.1.254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63.255.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B2C-CE1B-427A-B85D-6655B358AD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 og Voice over IP (også over 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oice kan være vanskelig over VPN for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oIP består av mange små pakker i en UDP/RTP strø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Codec g729r8 tar 8 kbps per talekanal + i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efault payload (data) for voice er kun 20 byte per IP pakke, dvs 50 pakker per sekund eller en pakke hver 2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ange pakker å behandle for VPN enheter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Overhead på grunn av IP header + ekstra VPN header kjør gjør at hver talekanal kan ta 60-110 k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NB: Det hjelper å øke payload fra 20 til 80-220 byte. Dette  reduserer antall pakker per kanal med 75-90%, og båndbreddebehov per talekanal reduseres ned mot 12 kbps per talekanal også med VPN (GRE/IP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Går på bekostning av latency, men 80-100 byte payload er i omtrent ikke registrerbart, og </a:t>
            </a:r>
            <a:r>
              <a:rPr b="0" lang="nb-NO" sz="2000" spc="-1" strike="noStrike" u="sng">
                <a:solidFill>
                  <a:srgbClr val="000000"/>
                </a:solidFill>
                <a:uFillTx/>
                <a:latin typeface="Arial"/>
              </a:rPr>
              <a:t>fungerer veldig bra i prak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DEC-E39B-4044-ADA3-D1A80A558B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oice over IPSec (også over 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isco-voice-rt# show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-peer voice 517072 vo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-pattern 517072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mf-relay cisco-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dec g729r8 byte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-rate 14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precedenc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target ipv4:10.255.0.2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: Viser hvordan dette ser ut på en ruter på spesifikk peer, tilsvarende finnes igjen på voice-gateway og IP telefon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2BE-8B89-4274-B3FC-D961CB09FD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ruting og backupsa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Enkelt da GRE tunneler oppfører seg akkurat som fysiske samb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Definer flere GRE for VPN mot 2-3 viktigste noder, og la rutingprotokoller styre trafi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Backup for underliggende WAN/Internet kan sikres på samme måte som en sikrer seg mot linjebrudd på ATM/Serielinker ved bruk av ISDN dialup e.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716-8349-411A-B607-C1EE6B1EC5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lient sikkerhet for mobile bruk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Virus, trojaner, fjernstyringsprogrammer, 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Hva som skjer med maskinen når ikke oppkoble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VPN klient kan påtvinge bruk av oppdatert virus- og personlig firewall programvare inkl regels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Splitt tunnelling, kryptering kun av intern kommunikasj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Anbefaler: Kjør alltid all trafikk via VPN tunnel, da er en like sikret gjennom bedriftens brannvegg som om en var på kontor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Det er tilfeller der splitt tunnelling må bruk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2C0-8E07-4CB2-A423-3CF15BD36E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-klienter og M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Ekstra IPSec (og evt GRE) headere reduserer tilgjengelig payload størr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Symptom på MTU problem er at applikasjoner ”fryser” og oppfører seg merkeli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elv om ”telnet host 1494” virker så fryser ICA på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brannvegger er ofte åpnet kun for spesifikk protokoll som skal brukes, så ping/icmp kontrollmeldinger kommer ofte ikke frem til klient/server med beskjed om å bruke mindre M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ADSL / xDSL / kabel: Ethernett MTU er redusert av PPoE, og VPN header kommer i tillegg og reduserer MTU ytterlig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91D-6C46-4966-A0D5-271AAD2214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-klienter og M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edusert MTU er et stort problem med VPN klienter, da det ofte er nødvendig å sette ned størr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or å hjelpe til med dette har det siden Cisco VPN client 3.5.1 kommet med mulighet for MTU justering i meny, slik at en slipper å mekke på windows registry innstill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Kan løse MTU fra ”andre siden” ved å sette ned MTU på host man skal koble seg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ller sette ned MTU på ethernet til VPN konsentrator sin innside slik at hoster på innsiden får ”ICMP need fragmenting” fra innsider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ller åpne for ”ICMP need fragmenting” trafikk i brannv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752-DAE8-471E-B9F4-5C46CDC2D1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 klienter og 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VPN med native IPSec overlever ikke N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VPN med TCP/UDP encapsulert IPSec overlever NAT, men dette forutsetter at ruter vet hvordan den kan kjøre NAT av dette og at VPN klient/server støtter det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imelige rutere har problemer med dette, de takler ofte bare første stasjon som kommer på inns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jansen for at TCP varianten skal fungere er langt større enn UDP varianten, men legger på m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A0F-B5BA-44A1-A72D-88DE31597A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7320" y="761760"/>
            <a:ext cx="767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VPN kan deles i 2 hovedgrupp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6640" y="1917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VPN mellom kontorst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Knytter sammen to nettverk over et åpent transport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Hardware basert løs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Både for bedriftsintern kommunikasjon og mellom bedrifter (extra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VPN for mobile bruk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ikker kommunikasjon for en enkelt bruker inn til kontor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Ofte softwarebasert løs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72080" y="2114640"/>
          <a:ext cx="3786120" cy="38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2080" y="2114640"/>
                    <a:ext cx="378612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86E-558D-4042-AFC2-71C1BE72A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bert Einste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428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 don`t need to know every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I just need to know where I can find it, when I need i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68680" y="3581280"/>
            <a:ext cx="2005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E4F-2D15-4945-A2F1-60DA019277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7320" y="761760"/>
            <a:ext cx="767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PN ressurser i NettSpesialis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2880" y="1790640"/>
            <a:ext cx="75182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side og telefon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nettspes.no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/ 51707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ekni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ein Arild Dybvik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ybvik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Jakob Eide Seim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seim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Rolf Jensen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jensen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Øystein Hermansen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ermansen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Per Ole Klemetsrud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klemetsrud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al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Jan Gangsoy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gangsoy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Gunnulf Rasmussen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rasmussen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orten Bergh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bergh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vein Inge Winkler Solberg – </a:t>
            </a:r>
            <a:r>
              <a:rPr b="0" lang="nb-NO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solberg@nettspes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350-DBA7-4C43-9E57-6EC53DBB8B9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vis tid: Litt om VPN produkter fra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786-1015-4600-B564-43952A5263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727280"/>
            <a:ext cx="748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a er et VPN / et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ikkert VP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PSec (kryptering, autentifisering, data integrit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Hva er utfordringer med VP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prioritering / sha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g Voice over I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med redundant ruting og backupsam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Klient sikkerhet for mobile bruk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M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Hvis tid: Cisco VPN produ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34B-99C7-4AD7-B487-AFAB7264D742}" type="slidenum">
              <a:t>43</a:t>
            </a:fld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Cisco VPN klient for mobile bruk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Cisco VPN klient 3.5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OS støt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Windows 95 OSR2, 98, ME, NT4, 2000,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Linux, Solaris, Max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movianVPN (PDA kli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OS støt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PalmOS v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WinCE v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F9B-99D5-428A-883B-195D9796E5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jemmekontor og mobile bruk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04760" y="1981080"/>
          <a:ext cx="7058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981080"/>
                    <a:ext cx="7058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757-3677-4924-9343-AA58FAA7F1C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jemmekontor / små bedr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04840" y="1981080"/>
          <a:ext cx="2109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981080"/>
                    <a:ext cx="210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84120" y="1981080"/>
            <a:ext cx="44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VPN3002 klient (H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2 Mbps 3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Lik management som software VPN k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r PPPoE, IPSec/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PIX 501 brannv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3 Mbps 3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Kjører fullt PIX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 for PPPoE (v6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806 Bredbånd Gateway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387 K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Kjører Cisco 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B4F-BE91-4DEE-8640-94C5A0240AD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Små kont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98480" y="1981080"/>
          <a:ext cx="2514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981080"/>
                    <a:ext cx="2514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71560" y="1981080"/>
            <a:ext cx="48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1700 R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Komplett sikkerhets løsning basert på Cisco 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VPN 3005 Consen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 for 100 samtidige VPN bruk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PIX 506 brannv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10 Mbps 3DES (20 Mbps F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Kjører komplett PIX 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 for PPPoE (v6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3CC-7563-42E3-AEA4-A38ED66E43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Regionale kont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69960" y="1981080"/>
          <a:ext cx="2360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981080"/>
                    <a:ext cx="2360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60440" y="1981080"/>
            <a:ext cx="529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2600/3600 Ru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Nytt AIM-VPN/EP VPN kort for 2650 (12 Mbps 3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VPN pak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3015 VPN Concen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 for 100 samtidige VPN bruk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PIX 515 brannv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Ytelse 10 Mbps 3DES (145 Mbps F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Støtter 3-6 interface og stateful failover for redund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4A6-94CD-4E2E-85D7-39BC08DABC1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ovedkon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09480" y="2262240"/>
          <a:ext cx="2481480" cy="35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62240"/>
                    <a:ext cx="248148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60440" y="1701360"/>
            <a:ext cx="5297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7200 WAN Multi-Service R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Ytelse 145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tøtter 5000 samtidige VPN sessj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VPN akselerasj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k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7100 VPN R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Ytelse 145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tøtter 5000 samtidige VPN sessj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Støtter VPN akselerasjons kort (V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VPN 3030/3060/3080 konsen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Brukes for terminering av et stort an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vpn sessjoner – 1500 til 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Ytelse 50 – 100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PIX 525/535 Brannv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Ytelse 70/95 Mbps 3DES (320 Mpb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1.7 Gbps F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EE3-38B6-4EE1-9959-FA7DB12C65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VPN inn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03240" y="1981080"/>
          <a:ext cx="7261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981080"/>
                    <a:ext cx="7261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5E7-0352-43A5-AFE6-985C7C503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Cisco VPN K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02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Enkel installasj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Mulighet for sentralisering av VPN konfigurasj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Rettigheter basert på grupper/bruk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Split 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Integrert personlig brannv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Siste release er VPN client 3.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769000" y="2606760"/>
          <a:ext cx="2689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9000" y="2606760"/>
                    <a:ext cx="2689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3B9-2C0C-426D-B08A-7041EDA8E1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VPN Site-til-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VPN er ett alternativ til den tradisjonelle WAN infrastrukt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Kostnads effekti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Mulighet for enkelt å utvide infrastruktur med f.eks. Ex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Gir en del ekstra funksjonali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Økt sikker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Nye QOS muligh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Muligheter for økt bruk av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945-CE44-4A32-8749-DF2EA5A1BB6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Cisco site-to-site løsn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8080" y="1981080"/>
          <a:ext cx="6311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981080"/>
                    <a:ext cx="6311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DF6-C7DF-4287-B868-EBB8941FBAC4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Cisco VPN 3000 Concen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43040" y="1981080"/>
          <a:ext cx="7580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758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CCF-B7DF-485A-BBB0-2D99F983F9C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6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Ytelse til routere med 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57160" y="1646280"/>
          <a:ext cx="731700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646280"/>
                    <a:ext cx="7317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00200" y="4559400"/>
            <a:ext cx="775800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Ytelse er krafig redusert med IP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Arial"/>
              </a:rPr>
              <a:t>For større løsninger økes ytelse gjennom HW aksellerator k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usk at ytelse påvirkes kun der det gjøres IPSec, men ta med behov for ekstra jern hvis IPSec skal bru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AE5-4D32-443F-B13A-656E7730A6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Cisco PIX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30240" y="1981080"/>
          <a:ext cx="7207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981080"/>
                    <a:ext cx="7207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C77-5CC7-4063-8059-FBBFD17CE56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PIX Firewall VPN spesifikasj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9480" y="2438280"/>
          <a:ext cx="784872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784872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926-8730-4D3A-B5A5-E18BC0B944A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Nyhet PIX 501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Brannvegg for hjemmebruk / avdelingskonto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Støtte for terminering av VPN tunn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Integrert 4-ports 10/100 Mbps sw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Integrert DHCP klient og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Støtter dynamisk og statisk NAT og P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0000"/>
                </a:solidFill>
                <a:latin typeface="Arial"/>
              </a:rPr>
              <a:t>Cisco CLI og Web grensesnitt for konfigur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6A3-5D1D-48DD-BEF1-20F9B60C537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Words of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6296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Plan for the future because that's where you're going to spend the rest of your life"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Mark Twain 1835-19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918-073B-40ED-AFF7-D69F35029FD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4360" y="761760"/>
            <a:ext cx="7683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va er et sikkert VP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1981080"/>
            <a:ext cx="77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ff0000"/>
                </a:solidFill>
                <a:latin typeface="Arial"/>
              </a:rPr>
              <a:t>Separert IP plan (mellom transportnett og VPN net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ff0000"/>
                </a:solidFill>
                <a:latin typeface="Arial"/>
              </a:rPr>
              <a:t>Separert trafikkfly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ff0000"/>
                </a:solidFill>
                <a:latin typeface="Arial"/>
              </a:rPr>
              <a:t>Separert rutingprotok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ff0000"/>
                </a:solidFill>
                <a:latin typeface="Arial"/>
              </a:rPr>
              <a:t>= VPN?    Eksempel: GRE, MPLS, ISL, (frame, a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8000"/>
                </a:solidFill>
                <a:latin typeface="Arial"/>
              </a:rPr>
              <a:t>+ Authentifisering   (sertifikat/preshared key/engangsp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8000"/>
                </a:solidFill>
                <a:latin typeface="Arial"/>
              </a:rPr>
              <a:t>+ Kryptering   (DES/56, 3DES/56, AES, .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8000"/>
                </a:solidFill>
                <a:latin typeface="Arial"/>
              </a:rPr>
              <a:t>+ Data integritet  (sjekksummer, MD5, SHA1, ..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200" spc="-1" strike="noStrike">
                <a:solidFill>
                  <a:srgbClr val="008000"/>
                </a:solidFill>
                <a:latin typeface="Arial"/>
              </a:rPr>
              <a:t>= Sikkert VPN   Eksempel: IPSec, GRE+IPSec, 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08D-1138-47EE-970F-E69D21EBC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27280"/>
            <a:ext cx="7480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a er et VPN / et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ikkert VP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</a:rPr>
              <a:t>IPSec (kryptering, autentifisering, data integrite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Arial"/>
              </a:rPr>
              <a:t>Hva er utfordringer med VPN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ytelse og flaskehal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ver internet – prioritering / sha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basert på GRE og IPS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900" spc="-1" strike="noStrike">
                <a:solidFill>
                  <a:srgbClr val="000000"/>
                </a:solidFill>
                <a:latin typeface="Arial"/>
              </a:rPr>
              <a:t>VPN og Voice over I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med redundant ruting og backupsam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Klient sikkerhet for mobile bruk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M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VPN klienter og N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Hvis tid: Cisco VPN produ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474-C7AF-42FD-A1F8-831298CAF4F7}" type="slidenum">
              <a:t>7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9160" y="761760"/>
            <a:ext cx="7709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Arial"/>
              </a:rPr>
              <a:t>Hva er IP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6800" y="1981080"/>
          <a:ext cx="3265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1981080"/>
                    <a:ext cx="3265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07960" y="1981080"/>
            <a:ext cx="434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IP protokoll på lag 3 nivå i OSI mod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I ferd med å bli en defacto standard for å løse ”Privacy, Integrity and Authentication” i IP 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Applikasjonsuavhen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Transportuavhen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0000"/>
                </a:solidFill>
                <a:latin typeface="Arial"/>
              </a:rPr>
              <a:t>Ende til 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ff0000"/>
                </a:solidFill>
                <a:latin typeface="Arial"/>
              </a:rPr>
              <a:t>NB: IPSec bruker egne IP protokoll numre 50 (AH) og 51 (ESP). Rutere og brannvegger må tillate og støtte disse for at ”native” IPSec skal fung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B4D-8229-42E5-A984-426117E72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2440" y="736200"/>
            <a:ext cx="779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PSec varia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Native IPSec (som spesifisert i opprinnelig RF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Den originale, bruker protokoll 50/51 direkte på IP niv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ite fleks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blem hvis adresseoversetting (NAT / 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oblem med at brannvegger ikke er åp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Encapsulering av IPSec TCP eller 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idereutvikling” av IPSec for å gi mer funksjonal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Løser problem med adresseoversetting (NAT / 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Noe mer overhead på grunn av innpakking i TCP elle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nklere å få den til å fungere gjennom rutere og brannve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C2A-87B1-43D0-B664-A0EE5AA12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Robert Marcus</dc:creator>
  <dc:description/>
  <dc:language>en-US</dc:language>
  <cp:lastModifiedBy>Martin Reime</cp:lastModifiedBy>
  <cp:lastPrinted>1999-05-20T17:51:02Z</cp:lastPrinted>
  <dcterms:modified xsi:type="dcterms:W3CDTF">2002-06-02T16:46:09Z</dcterms:modified>
  <cp:revision>1188</cp:revision>
  <dc:subject/>
  <dc:title>Exchange 2000 Server Technical</dc:title>
</cp:coreProperties>
</file>