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9.png" ContentType="image/png"/>
  <Override PartName="/ppt/media/image22.png" ContentType="image/png"/>
  <Override PartName="/ppt/media/image29.png" ContentType="image/png"/>
  <Override PartName="/ppt/media/image71.png" ContentType="image/png"/>
  <Override PartName="/ppt/media/image21.jpeg" ContentType="image/jpeg"/>
  <Override PartName="/ppt/media/image65.png" ContentType="image/png"/>
  <Override PartName="/ppt/media/image28.png" ContentType="image/png"/>
  <Override PartName="/ppt/media/image7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4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50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18.jpeg" ContentType="image/jpe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82.png" ContentType="image/png"/>
  <Override PartName="/ppt/media/image17.png" ContentType="image/png"/>
  <Override PartName="/ppt/media/image24.png" ContentType="image/png"/>
  <Override PartName="/ppt/media/image11.png" ContentType="image/png"/>
  <Override PartName="/ppt/media/image48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61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84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06E9-0E58-4BF4-B7BC-84E8BC4D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AECF-D5A7-42F2-9B4B-5E80B0728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06640" y="677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7036-F80A-4A63-A440-AE1656384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5341-73C3-457D-8CCA-7E61031A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00A-C466-41D0-B5A4-31C44EBA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8831-1F8A-4A06-97B5-AD9750B8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26B-FA35-44A8-A782-50D781DE7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9520" y="67788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3240" y="4373640"/>
            <a:ext cx="5035680" cy="40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C5D-ABEB-4043-AC4C-603EA105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905F-CF84-4397-8302-2BE25C49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13E-5636-4F3F-B05C-6CF55911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E3E0-467A-479A-860B-410531AD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D1D7-8354-4376-A121-E826FA78F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8363-46EF-4C8E-A6FB-50BCED8C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9BB-EEE4-4C52-AAD0-2A44BDB6A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B07-AAA8-4428-8B5F-F339AD1E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885-D7ED-421F-B7A0-584ED118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95D-749D-47CC-AAF2-A5D3CCAF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AF44-C50A-4CFF-B045-D19BC4C1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703-DC1D-4EF4-96D5-0923E3AFF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164-C5B9-46DF-BD33-8595E7A1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2B0-345B-4020-887C-2ED95B64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8CF6-67CB-44FB-94EB-9AAD8AB1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03240" y="4373640"/>
            <a:ext cx="5035680" cy="40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4A70-8D09-4BF5-A833-C26EE6DCE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A1E-11C1-47EC-907A-F04AE91D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8080" y="67788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3240" y="4373640"/>
            <a:ext cx="5035680" cy="407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F08-C01B-4885-B05C-35481F3FB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9520" y="676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6E7-623C-430F-8C28-4C23360C9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09520" y="676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B319-D6CE-48B3-8779-599FD28AE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06640" y="67788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35680" cy="40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599-71FE-4C8E-9D1D-F98F15A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040-BB18-4D17-A68A-83A08AA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65A-DE43-4B2E-B363-16E10CDA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5AC-C89C-472F-AEAA-BEF868BA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D26-2133-402D-8D27-64B169D8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534-1FF0-4798-BC07-80D06E06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D69-F6A2-4AD5-837B-1E0D9FF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D16-1515-4048-9EFA-D5C390BA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E6A-B7FC-4AE2-9EA5-BFB0C64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319-4A5F-4909-9953-F6E9E17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F32-9465-40AC-BD79-58F01CF5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296-6964-46F5-8783-82E1E6A1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2503440" cy="68770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01000" y="6248520"/>
            <a:ext cx="106668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3.png"/><Relationship Id="rId3" Type="http://schemas.openxmlformats.org/officeDocument/2006/relationships/slide" Target="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" Target=""/><Relationship Id="rId7" Type="http://schemas.openxmlformats.org/officeDocument/2006/relationships/image" Target="../media/image46.png"/><Relationship Id="rId8" Type="http://schemas.openxmlformats.org/officeDocument/2006/relationships/slide" Target="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slide" Target="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slide" Target="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slide" Target=""/><Relationship Id="rId22" Type="http://schemas.openxmlformats.org/officeDocument/2006/relationships/image" Target="../media/image57.jpeg"/><Relationship Id="rId23" Type="http://schemas.openxmlformats.org/officeDocument/2006/relationships/slide" Target=""/><Relationship Id="rId24" Type="http://schemas.openxmlformats.org/officeDocument/2006/relationships/image" Target="../media/image58.png"/><Relationship Id="rId25" Type="http://schemas.openxmlformats.org/officeDocument/2006/relationships/oleObject" Target="../embeddings/oleObject1.bin"/><Relationship Id="rId26" Type="http://schemas.openxmlformats.org/officeDocument/2006/relationships/image" Target="../media/image59.png"/><Relationship Id="rId27" Type="http://schemas.openxmlformats.org/officeDocument/2006/relationships/slide" Target="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slide" Target="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oleObject" Target="../embeddings/oleObject2.bin"/><Relationship Id="rId34" Type="http://schemas.openxmlformats.org/officeDocument/2006/relationships/image" Target="../media/image64.png"/><Relationship Id="rId35" Type="http://schemas.openxmlformats.org/officeDocument/2006/relationships/image" Target="../media/image65.png"/><Relationship Id="rId36" Type="http://schemas.openxmlformats.org/officeDocument/2006/relationships/image" Target="../media/image66.png"/><Relationship Id="rId37" Type="http://schemas.openxmlformats.org/officeDocument/2006/relationships/slide" Target=""/><Relationship Id="rId38" Type="http://schemas.openxmlformats.org/officeDocument/2006/relationships/image" Target="../media/image67.png"/><Relationship Id="rId39" Type="http://schemas.openxmlformats.org/officeDocument/2006/relationships/oleObject" Target="../embeddings/oleObject3.bin"/><Relationship Id="rId40" Type="http://schemas.openxmlformats.org/officeDocument/2006/relationships/slide" Target=""/><Relationship Id="rId41" Type="http://schemas.openxmlformats.org/officeDocument/2006/relationships/image" Target="../media/image68.png"/><Relationship Id="rId42" Type="http://schemas.openxmlformats.org/officeDocument/2006/relationships/slide" Target=""/><Relationship Id="rId43" Type="http://schemas.openxmlformats.org/officeDocument/2006/relationships/image" Target="../media/image69.png"/><Relationship Id="rId44" Type="http://schemas.openxmlformats.org/officeDocument/2006/relationships/slide" Target=""/><Relationship Id="rId45" Type="http://schemas.openxmlformats.org/officeDocument/2006/relationships/image" Target="../media/image70.png"/><Relationship Id="rId46" Type="http://schemas.openxmlformats.org/officeDocument/2006/relationships/image" Target="../media/image71.png"/><Relationship Id="rId47" Type="http://schemas.openxmlformats.org/officeDocument/2006/relationships/image" Target="../media/image72.png"/><Relationship Id="rId48" Type="http://schemas.openxmlformats.org/officeDocument/2006/relationships/image" Target="../media/image73.png"/><Relationship Id="rId49" Type="http://schemas.openxmlformats.org/officeDocument/2006/relationships/oleObject" Target="../embeddings/oleObject4.bin"/><Relationship Id="rId50" Type="http://schemas.openxmlformats.org/officeDocument/2006/relationships/image" Target="../media/image74.png"/><Relationship Id="rId51" Type="http://schemas.openxmlformats.org/officeDocument/2006/relationships/oleObject" Target="../embeddings/oleObject5.bin"/><Relationship Id="rId52" Type="http://schemas.openxmlformats.org/officeDocument/2006/relationships/image" Target="../media/image75.png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0.xml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44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57.jpe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0.xml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hyperlink" Target="http://www.wipro.com/index.htm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pdaconsulting.co.za/index.htm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jpe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21.jpeg"/><Relationship Id="rId2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5867280"/>
            <a:ext cx="1295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1690560"/>
            <a:ext cx="4038480" cy="20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5F7-B821-4412-A522-853335D907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utomate the wireles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nc experience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371600"/>
            <a:ext cx="297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dySync feature keeps device up-to-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s across entire su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ables ‘smart’ connection sync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ables ‘on network connect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ks with GSM, GPRS, 802.11, cradle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073320" cy="40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D24-8833-4A1A-A8D4-1A9F07BCF0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304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Optimized for wireless syn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16440" y="1295280"/>
            <a:ext cx="400824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5800" y="2666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eckpoint re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32004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T, LDAP, Active Directory or Lotus Domino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267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urity – 128-bit Certicom SSL 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044-3328-4E2C-83E8-A56954622CF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Accessible Corporate Data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3581640" cy="4957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5410080"/>
            <a:ext cx="76176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952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st file and web site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255-ACD2-4701-9767-2D5045BDDF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537000" cy="46069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4419720" y="837720"/>
            <a:ext cx="4724280" cy="3153240"/>
            <a:chOff x="4419720" y="837720"/>
            <a:chExt cx="4724280" cy="315324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6743880" y="838080"/>
              <a:ext cx="2400120" cy="315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4419720" y="837720"/>
              <a:ext cx="2438280" cy="3124800"/>
              <a:chOff x="4419720" y="837720"/>
              <a:chExt cx="2438280" cy="312480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4419720" y="837720"/>
                <a:ext cx="2361960" cy="16765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19720" y="2514600"/>
                <a:ext cx="2438280" cy="1447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733920" y="3505320"/>
            <a:ext cx="4676760" cy="3152520"/>
            <a:chOff x="3733920" y="3505320"/>
            <a:chExt cx="4676760" cy="315252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6019920" y="3505320"/>
              <a:ext cx="2390760" cy="31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3733920" y="3580920"/>
              <a:ext cx="2286000" cy="2972160"/>
              <a:chOff x="3733920" y="3580920"/>
              <a:chExt cx="2286000" cy="297216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3733920" y="3580920"/>
                <a:ext cx="2286000" cy="685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33920" y="4267080"/>
                <a:ext cx="2286000" cy="2286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Accessible Corporate Data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96" name="">
            <a:hlinkClick r:id="rId4" action="ppaction://hlinksldjump"/>
          </p:cNvPr>
          <p:cNvSpPr/>
          <p:nvPr/>
        </p:nvSpPr>
        <p:spPr>
          <a:xfrm>
            <a:off x="2283120" y="65152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706-9EF1-4A10-B628-EF4CE745974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61280" y="3886200"/>
            <a:ext cx="1706400" cy="1370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1320840" cy="2057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nchrologic Solution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133720"/>
            <a:ext cx="34290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il &amp; PIM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274320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276720"/>
            <a:ext cx="3429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80988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077320" y="2286000"/>
            <a:ext cx="1066680" cy="915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467480" y="1752480"/>
            <a:ext cx="700200" cy="990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543800" y="3200400"/>
            <a:ext cx="52848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8153280" y="3276720"/>
            <a:ext cx="74772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99E-D568-48ED-B7BA-7CEBA10BAA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762120" y="1219320"/>
          <a:ext cx="648468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64846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1599840" y="2209680"/>
            <a:ext cx="7543800" cy="1191240"/>
            <a:chOff x="1599840" y="2209680"/>
            <a:chExt cx="7543800" cy="1191240"/>
          </a:xfrm>
        </p:grpSpPr>
        <p:sp>
          <p:nvSpPr>
            <p:cNvPr id="213" name=""/>
            <p:cNvSpPr/>
            <p:nvPr/>
          </p:nvSpPr>
          <p:spPr>
            <a:xfrm flipH="1">
              <a:off x="1599840" y="2397600"/>
              <a:ext cx="5244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88320" y="2209680"/>
              <a:ext cx="215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ingle user/group list synced with corporate direct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2819520"/>
            <a:ext cx="7086240" cy="2361600"/>
            <a:chOff x="1981080" y="2819520"/>
            <a:chExt cx="7086240" cy="2361600"/>
          </a:xfrm>
        </p:grpSpPr>
        <p:sp>
          <p:nvSpPr>
            <p:cNvPr id="216" name=""/>
            <p:cNvSpPr/>
            <p:nvPr/>
          </p:nvSpPr>
          <p:spPr>
            <a:xfrm>
              <a:off x="6962400" y="3429000"/>
              <a:ext cx="21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ll admin tools snap into single cons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981080" y="2819520"/>
              <a:ext cx="4841280" cy="2361600"/>
              <a:chOff x="1981080" y="2819520"/>
              <a:chExt cx="4841280" cy="2361600"/>
            </a:xfrm>
          </p:grpSpPr>
          <p:sp>
            <p:nvSpPr>
              <p:cNvPr id="218" name=""/>
              <p:cNvSpPr/>
              <p:nvPr/>
            </p:nvSpPr>
            <p:spPr>
              <a:xfrm flipH="1" flipV="1">
                <a:off x="1981080" y="2819520"/>
                <a:ext cx="4841280" cy="761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2160360" y="3504960"/>
                <a:ext cx="4661640" cy="304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471760" y="4038480"/>
                <a:ext cx="4350240" cy="6854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50920" y="4190760"/>
                <a:ext cx="4700880" cy="990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369600">
                <a:off x="3796200" y="2925720"/>
                <a:ext cx="1261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File Distrib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33400">
                <a:off x="3804840" y="3382920"/>
                <a:ext cx="126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Systems Mg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21062400">
                <a:off x="3940920" y="4114800"/>
                <a:ext cx="126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Data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977200">
                <a:off x="3612240" y="4387320"/>
                <a:ext cx="199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Exchange/Domino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5638320" y="4419720"/>
            <a:ext cx="3353040" cy="1191240"/>
            <a:chOff x="5638320" y="4419720"/>
            <a:chExt cx="3353040" cy="1191240"/>
          </a:xfrm>
        </p:grpSpPr>
        <p:sp>
          <p:nvSpPr>
            <p:cNvPr id="227" name=""/>
            <p:cNvSpPr/>
            <p:nvPr/>
          </p:nvSpPr>
          <p:spPr>
            <a:xfrm>
              <a:off x="6979680" y="4419720"/>
              <a:ext cx="201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ll mobile devices centrally man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638320" y="4635360"/>
              <a:ext cx="1207080" cy="719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06520" y="4837680"/>
              <a:ext cx="938880" cy="50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12160" y="5067360"/>
              <a:ext cx="565560" cy="274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>
            <a:hlinkClick r:id="rId3" action="ppaction://hlinksldjump"/>
          </p:cNvPr>
          <p:cNvSpPr/>
          <p:nvPr/>
        </p:nvSpPr>
        <p:spPr>
          <a:xfrm>
            <a:off x="8429760" y="61722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 Narrow"/>
              </a:rPr>
              <a:t>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Central Admin Console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087-B177-4091-9569-C9AB4E2399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57400" y="1508040"/>
            <a:ext cx="5867280" cy="4589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58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Pocket PC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Hardware Asset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12859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B76-BAA5-4FFB-84F3-B7A87BA153B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Pocket PC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oftware Asset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1285920" cy="1905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5790960" cy="453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BEA-E71C-4C51-B5B4-8BCEC8457FE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ice 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362320" y="1208160"/>
          <a:ext cx="556236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08160"/>
                    <a:ext cx="55623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12859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819-D6DA-4B69-A75B-D320EE416F8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361280" y="3886200"/>
            <a:ext cx="1706400" cy="1370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1320840" cy="20574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nchrologic Solution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133720"/>
            <a:ext cx="34290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il &amp; PIM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274320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3276720"/>
            <a:ext cx="3429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380988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077320" y="2286000"/>
            <a:ext cx="1066680" cy="915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7467480" y="1752480"/>
            <a:ext cx="700200" cy="990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543800" y="3200400"/>
            <a:ext cx="52848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8153280" y="3276720"/>
            <a:ext cx="74772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F39-E7CB-4BC0-A289-A5FB8AD9C0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Headquarters in Atlanta, GA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Offices in London, Munich &amp; Mila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6+ years mobile computing experience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Hundreds of corporate customers </a:t>
            </a:r>
            <a:br>
              <a:rPr sz="2900"/>
            </a:b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(hundreds or thousands of mobile seats deployed)</a:t>
            </a:r>
            <a:endParaRPr b="1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838080"/>
            <a:ext cx="684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Compan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37C-CD0C-436A-8353-D6FEA61666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48720" y="5861160"/>
            <a:ext cx="1295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842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Global 2000 Customers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2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71800" y="2441520"/>
            <a:ext cx="1951200" cy="430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3124080"/>
            <a:ext cx="1295640" cy="409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3276720" y="3048120"/>
            <a:ext cx="1493640" cy="480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257800" y="1579680"/>
            <a:ext cx="1560600" cy="4014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410080" y="5943600"/>
            <a:ext cx="1600200" cy="625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3048120" y="5029200"/>
            <a:ext cx="1815840" cy="549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685800" y="3657600"/>
            <a:ext cx="1981080" cy="396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576440"/>
            <a:ext cx="1494000" cy="542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838080" y="2971800"/>
            <a:ext cx="1676520" cy="512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5"/>
          <a:stretch/>
        </p:blipFill>
        <p:spPr>
          <a:xfrm>
            <a:off x="6553080" y="3505320"/>
            <a:ext cx="2210040" cy="322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2971800" y="4173480"/>
            <a:ext cx="1219320" cy="627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3581280" y="6172200"/>
            <a:ext cx="1613160" cy="34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8001000" y="3825720"/>
            <a:ext cx="955800" cy="517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Syngenta"/>
          <p:cNvPicPr/>
          <p:nvPr/>
        </p:nvPicPr>
        <p:blipFill>
          <a:blip r:embed="rId20"/>
          <a:stretch/>
        </p:blipFill>
        <p:spPr>
          <a:xfrm>
            <a:off x="990720" y="4191120"/>
            <a:ext cx="1387440" cy="501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5200560" y="2077920"/>
            <a:ext cx="895320" cy="970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5029200" y="5257800"/>
            <a:ext cx="163836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600200" y="6054840"/>
          <a:ext cx="1752480" cy="57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600200" y="6054840"/>
                    <a:ext cx="1752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066680" y="1523880"/>
            <a:ext cx="1295640" cy="763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9"/>
          <a:stretch/>
        </p:blipFill>
        <p:spPr>
          <a:xfrm>
            <a:off x="6858000" y="5334120"/>
            <a:ext cx="2039760" cy="384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7086600" y="5915160"/>
            <a:ext cx="1905120" cy="714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2"/>
          <a:stretch/>
        </p:blipFill>
        <p:spPr>
          <a:xfrm>
            <a:off x="1143000" y="5091120"/>
            <a:ext cx="12193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762120" y="2286000"/>
          <a:ext cx="1828800" cy="60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2120" y="2286000"/>
                    <a:ext cx="1828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5"/>
          <a:stretch/>
        </p:blipFill>
        <p:spPr>
          <a:xfrm>
            <a:off x="1295280" y="5692680"/>
            <a:ext cx="1600200" cy="327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6"/>
          <a:stretch/>
        </p:blipFill>
        <p:spPr>
          <a:xfrm>
            <a:off x="5334120" y="4321080"/>
            <a:ext cx="1476360" cy="479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581960" y="1371600"/>
            <a:ext cx="1371600" cy="554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1447920"/>
            <a:ext cx="2210040" cy="3429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1447920"/>
            <a:ext cx="2209680" cy="3429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1447920"/>
            <a:ext cx="3962520" cy="3429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8382240" cy="1828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153280" y="2057400"/>
          <a:ext cx="685800" cy="6825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90" name="" descr="">
                    <a:hlinkClick r:id="rId40" action="ppaction://hlinksldjump"/>
                  </p:cNvPr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153280" y="2057400"/>
                    <a:ext cx="6858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2949480" y="3639960"/>
            <a:ext cx="1965600" cy="398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6553080" y="3921120"/>
            <a:ext cx="1347840" cy="365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6"/>
          <a:stretch/>
        </p:blipFill>
        <p:spPr>
          <a:xfrm>
            <a:off x="6686640" y="2133720"/>
            <a:ext cx="780840" cy="4269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034520" y="56386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A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7"/>
          <a:stretch/>
        </p:blipFill>
        <p:spPr>
          <a:xfrm>
            <a:off x="5105520" y="3940200"/>
            <a:ext cx="1371600" cy="263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8"/>
          <a:srcRect l="0" t="0" r="0" b="38027"/>
          <a:stretch/>
        </p:blipFill>
        <p:spPr>
          <a:xfrm>
            <a:off x="4038480" y="3784680"/>
            <a:ext cx="1219320" cy="11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6705720" y="2590920"/>
          <a:ext cx="1447560" cy="8935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705720" y="2590920"/>
                    <a:ext cx="144756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7238880" y="4267080"/>
          <a:ext cx="1143000" cy="571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238880" y="4267080"/>
                    <a:ext cx="114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206-12D4-4CAB-9CC0-ED2BF84C34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676520" y="2281320"/>
            <a:ext cx="693396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m Application; CodeWarrior; Ora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store-and-forward to minimize database impact on produc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4 months from initial scope to roll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Summary: Mobilized a sales reporting and management application for financial services wholesalers to manage their bro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Requirements: Aggressive rollout schedule, Minimal impact on serve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Benefits: Provided a mechanism to target resources on under performing brokers, provided more accurate and timely reports on sales performance and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505320" y="990720"/>
          <a:ext cx="32004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990720"/>
                    <a:ext cx="32004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F15-D7DC-4530-B3CE-1E16128649F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66680" y="2568600"/>
            <a:ext cx="5029200" cy="36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-based application; SQL Anywhere on client; Oracle 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CRM, sales support tools, literature fulfillment, speaker program, clinical trial application management, and compliance docu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500 rolled out on PC (Full roll out took 60 days); 500 handhelds rolling out soon (iDS, iFD, iS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estimated hardware costs fro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0K to $4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Requirements: No upgrade required on client database; Store-and-forward architecture for scalability purposes; Fail-over; Ease of configuration for sharing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990720"/>
            <a:ext cx="1905120" cy="112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92240" y="217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4480" y="2577960"/>
            <a:ext cx="266724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PC and Palm sync to Exchange 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 users so far in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217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hange 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7FB-6447-4EE8-A1EF-34A2B63E472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905120" y="2057400"/>
            <a:ext cx="586728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chandising application: Maintaining in-store displays, ensure working video games, well-stocked shelves and eye-catching promotion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-person field merchandising fl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t PC with fingertip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production time took &lt;60 days and has been running for past 2½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connect times for remote retail reps from 30 minutes to 8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better inventory control for Nintendo products than stores themselves tracked…helped retail partners reduce shrin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is considered a “competitive advantage” by Ninte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1143000"/>
            <a:ext cx="2438280" cy="771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7620120" y="1523880"/>
            <a:ext cx="1295280" cy="784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7924680" y="2362320"/>
            <a:ext cx="866880" cy="1028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380880" y="3429000"/>
            <a:ext cx="1524240" cy="1406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7467480" y="3505320"/>
            <a:ext cx="198144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01-C908-40DF-B3A9-E37F6093516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2174760"/>
            <a:ext cx="586728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and Customer Data Collection: Point-of-sale data from independent franchise stores to the corporate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,500 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reporting capabilities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provide incentives for franchisee ad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communications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n ability to target products/promotion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certain store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ther all store data, not just summary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with existing application and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admin-driven refr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able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 no user interaction at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914400"/>
            <a:ext cx="1195560" cy="1295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6781680" y="3200400"/>
            <a:ext cx="2210040" cy="197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417-2CAA-4186-A51F-FFD7901698D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57400" y="255600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and Reporting App for Radiation Delivery/Pickup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m and Pocket PC; Ora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efficiency by removing pap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data errors and eliminating data re-ke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, easy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419720" y="1000080"/>
          <a:ext cx="137160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000080"/>
                    <a:ext cx="13716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AC6-F1F2-4AC6-8420-057CC851E00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57400" y="2556000"/>
            <a:ext cx="58672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t Operations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ck subway train on-tim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ort problems on the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e location of trains to controllers and t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 eval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 conductors, train engineers and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spring Visor Prism; SQL Server (iFD, iSM, R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efficiency by removing pap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data errors and eliminating data re-ke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, easy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e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895480" y="1363680"/>
            <a:ext cx="3810240" cy="7700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086600" y="1219320"/>
            <a:ext cx="1714680" cy="1123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812880" y="1219320"/>
            <a:ext cx="17143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E83-A825-4236-8F9A-CDB9809CE0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57400" y="2556000"/>
            <a:ext cx="586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Force Automation for Corporate and Independent Insuranc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,000 s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 MSDE;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358164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64D-9363-48CF-AB69-EDC22C9CBF8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057400" y="2556000"/>
            <a:ext cx="5334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ing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m; SQL Server  (RSS, 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efficiency by removing pap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data errors and eliminating data re-ke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, easy 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733560" cy="1011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505640" y="1623960"/>
            <a:ext cx="1401840" cy="17524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629400" y="2752560"/>
            <a:ext cx="1257480" cy="1157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7886880" y="3529080"/>
            <a:ext cx="1218960" cy="879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7505640" y="4519440"/>
            <a:ext cx="120024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61A-0E08-4485-8021-B940975EF77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057400" y="25560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Audit Reporting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Field Risk Engine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timeliness of customer delivery of risk audit (from 7 weeks to 2 d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roductivity of field employees by minimizing paper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renewal rate for customers (application has directly accounted for over $300 million in revenue for R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lso reduced telecoms costs by 98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505320" y="1066680"/>
          <a:ext cx="32162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066680"/>
                    <a:ext cx="3216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A9C-984D-45FB-85A1-FA2B02291B9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EMEA Partners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512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81200" y="3108240"/>
            <a:ext cx="5783400" cy="641520"/>
            <a:chOff x="1681200" y="3108240"/>
            <a:chExt cx="5783400" cy="641520"/>
          </a:xfrm>
        </p:grpSpPr>
        <p:sp>
          <p:nvSpPr>
            <p:cNvPr id="58" name=""/>
            <p:cNvSpPr/>
            <p:nvPr/>
          </p:nvSpPr>
          <p:spPr>
            <a:xfrm>
              <a:off x="1681200" y="3108240"/>
              <a:ext cx="44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81200" y="3108240"/>
              <a:ext cx="5783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Arial"/>
                  <a:hlinkClick r:id="rId2" action="ppaction://hlinksldjump"/>
                </a:rPr>
                <a:t>  </a:t>
              </a:r>
              <a:r>
                <a:rPr b="1" lang="en-US" sz="3600" spc="-1" strike="noStrike">
                  <a:solidFill>
                    <a:srgbClr val="251257"/>
                  </a:solidFill>
                  <a:latin typeface="Arial"/>
                </a:rPr>
                <a:t> </a:t>
              </a:r>
              <a:r>
                <a:rPr b="1" lang="en-US" sz="1100" spc="-1" strike="noStrike">
                  <a:solidFill>
                    <a:srgbClr val="251257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POINT Information Systems TeamPOINT Customer Interaction Softwar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685800"/>
            <a:ext cx="2286000" cy="5716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674720" y="3108240"/>
            <a:ext cx="5796000" cy="641520"/>
            <a:chOff x="1674720" y="3108240"/>
            <a:chExt cx="5796000" cy="641520"/>
          </a:xfrm>
        </p:grpSpPr>
        <p:sp>
          <p:nvSpPr>
            <p:cNvPr id="62" name=""/>
            <p:cNvSpPr/>
            <p:nvPr/>
          </p:nvSpPr>
          <p:spPr>
            <a:xfrm>
              <a:off x="1674720" y="3108240"/>
              <a:ext cx="44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4720" y="3108240"/>
              <a:ext cx="5796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Exxternity"/>
          <p:cNvPicPr/>
          <p:nvPr/>
        </p:nvPicPr>
        <p:blipFill>
          <a:blip r:embed="rId5"/>
          <a:stretch/>
        </p:blipFill>
        <p:spPr>
          <a:xfrm>
            <a:off x="4495680" y="990720"/>
            <a:ext cx="2286000" cy="5713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340000" y="2917800"/>
            <a:ext cx="4465440" cy="1022400"/>
            <a:chOff x="2340000" y="2917800"/>
            <a:chExt cx="4465440" cy="1022400"/>
          </a:xfrm>
        </p:grpSpPr>
        <p:sp>
          <p:nvSpPr>
            <p:cNvPr id="66" name=""/>
            <p:cNvSpPr/>
            <p:nvPr/>
          </p:nvSpPr>
          <p:spPr>
            <a:xfrm>
              <a:off x="2340000" y="291780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40000" y="2917800"/>
              <a:ext cx="4465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315200" y="380880"/>
            <a:ext cx="1371600" cy="9716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601640" y="2954160"/>
            <a:ext cx="5942160" cy="946080"/>
            <a:chOff x="1601640" y="2954160"/>
            <a:chExt cx="5942160" cy="946080"/>
          </a:xfrm>
        </p:grpSpPr>
        <p:sp>
          <p:nvSpPr>
            <p:cNvPr id="70" name=""/>
            <p:cNvSpPr/>
            <p:nvPr/>
          </p:nvSpPr>
          <p:spPr>
            <a:xfrm>
              <a:off x="1601640" y="2954160"/>
              <a:ext cx="44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1640" y="2954160"/>
              <a:ext cx="59421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Mobbis"/>
          <p:cNvPicPr/>
          <p:nvPr/>
        </p:nvPicPr>
        <p:blipFill>
          <a:blip r:embed="rId7"/>
          <a:stretch/>
        </p:blipFill>
        <p:spPr>
          <a:xfrm>
            <a:off x="1219320" y="1523880"/>
            <a:ext cx="2514600" cy="9032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340000" y="2738520"/>
            <a:ext cx="4465440" cy="1371600"/>
            <a:chOff x="2340000" y="2738520"/>
            <a:chExt cx="4465440" cy="1371600"/>
          </a:xfrm>
        </p:grpSpPr>
        <p:sp>
          <p:nvSpPr>
            <p:cNvPr id="74" name=""/>
            <p:cNvSpPr/>
            <p:nvPr/>
          </p:nvSpPr>
          <p:spPr>
            <a:xfrm>
              <a:off x="2340000" y="273852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40000" y="2738520"/>
              <a:ext cx="44654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8" action="ppaction://hlinksldjump"/>
                </a:rPr>
                <a:t>  </a:t>
              </a:r>
              <a:r>
                <a:rPr b="0" lang="en-US" sz="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209680" y="2971800"/>
            <a:ext cx="4465800" cy="625320"/>
            <a:chOff x="2209680" y="2971800"/>
            <a:chExt cx="4465800" cy="625320"/>
          </a:xfrm>
        </p:grpSpPr>
        <p:sp>
          <p:nvSpPr>
            <p:cNvPr id="77" name=""/>
            <p:cNvSpPr/>
            <p:nvPr/>
          </p:nvSpPr>
          <p:spPr>
            <a:xfrm>
              <a:off x="2209680" y="2971800"/>
              <a:ext cx="44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2971800"/>
              <a:ext cx="44658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9" action="ppaction://hlinksldjump"/>
                </a:rPr>
                <a:t>  </a:t>
              </a:r>
              <a:r>
                <a:rPr b="0" lang="en-US" sz="3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Nomadic Information Consulting provides system integration services for companies with remote and mobile users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391520" y="1676520"/>
            <a:ext cx="1428480" cy="56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1066680" y="3657600"/>
            <a:ext cx="2183040" cy="193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Applying Though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80880" y="25909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772400" y="3200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7"/>
          <a:stretch/>
        </p:blipFill>
        <p:spPr>
          <a:xfrm>
            <a:off x="1066680" y="5486400"/>
            <a:ext cx="7864560" cy="43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8"/>
          <a:stretch/>
        </p:blipFill>
        <p:spPr>
          <a:xfrm>
            <a:off x="6477120" y="2514600"/>
            <a:ext cx="23540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9"/>
          <a:stretch/>
        </p:blipFill>
        <p:spPr>
          <a:xfrm>
            <a:off x="6477120" y="2819520"/>
            <a:ext cx="235404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Rapid Information"/>
          <p:cNvPicPr/>
          <p:nvPr/>
        </p:nvPicPr>
        <p:blipFill>
          <a:blip r:embed="rId20"/>
          <a:stretch/>
        </p:blipFill>
        <p:spPr>
          <a:xfrm>
            <a:off x="3809880" y="4876920"/>
            <a:ext cx="3508560" cy="87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1"/>
          <a:stretch/>
        </p:blipFill>
        <p:spPr>
          <a:xfrm>
            <a:off x="3352680" y="3809880"/>
            <a:ext cx="3646440" cy="503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2"/>
          <a:stretch/>
        </p:blipFill>
        <p:spPr>
          <a:xfrm>
            <a:off x="1676520" y="2514600"/>
            <a:ext cx="4724280" cy="106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4114800" y="1600200"/>
            <a:ext cx="312408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4"/>
          <a:stretch/>
        </p:blipFill>
        <p:spPr>
          <a:xfrm>
            <a:off x="5181480" y="601992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5"/>
          <a:stretch/>
        </p:blipFill>
        <p:spPr>
          <a:xfrm>
            <a:off x="2209680" y="5965920"/>
            <a:ext cx="2362320" cy="89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6"/>
          <a:stretch/>
        </p:blipFill>
        <p:spPr>
          <a:xfrm>
            <a:off x="7010280" y="4191120"/>
            <a:ext cx="2133720" cy="90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7"/>
          <a:stretch/>
        </p:blipFill>
        <p:spPr>
          <a:xfrm>
            <a:off x="4876920" y="4329000"/>
            <a:ext cx="1676160" cy="7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87-7D3D-44B1-AF1A-4E8AB929C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057400" y="25560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M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 Field Sales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offline access to key custom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to handle high data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ailover, remote administration, and mobile software distribution/update (no more CD software updates) to reduce IT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managable data distribution rules driven by dynamic business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communications co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1981080" cy="7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86A-AF97-4A46-95F9-0E1302254B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362320" y="2209680"/>
            <a:ext cx="525780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-through data to Pal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sales r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ized existing sell-through reports of geographical channel partners in less than 1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1752480" cy="9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42F-EC83-4A57-BA7B-1843CF74DB9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2133720"/>
            <a:ext cx="80010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00 recruiters with paper-based system; implementing “Electronic Leads Management System” to both laptops and handhel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ync to handle the complex rules for distributing data throughout the organizational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distribution to send weekly and monthly reports of recruiting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management to keep IT support cost of devices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/PIM sync will be considered for future inclusion i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cost savings anticipated, but...real driver was competitive advantage - beating the other branches of the military to talking to a potential recrui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nes Recruiting is cutting-edge and aggressive compared to other branches...they are the only branch that has made their recruitment quota consistently in the past 10 y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2667240" cy="10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498-9705-4D2E-B8A1-720A2B85B08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6680" y="2481120"/>
            <a:ext cx="7772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 Field Salespeople in North America and Far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erver-based application – large data volu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forecasting, customer data, customer cargo tracking data, pricing data, decis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year return calculated over 1500%, including a hard savings of $300K/yr in mobile communications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duction for over 4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3200400" cy="70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C13-A4EF-4A98-934C-F95A5302497F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066680" y="2133720"/>
            <a:ext cx="77724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500 Field Territory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erver based application in Visual 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Port application – customer data, gather environment data to generate customized solution, billing and service level data, equipment failure and service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cessary to roll appropriate data to Territory Managers and District Managers for account management and decision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than 1 year payback from elimination of paper forms and data input efficiencies; other benefits are full field data backups, printing and distribution costs, and better sales managemen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2743200" cy="70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5A9-787C-40A3-9D23-81390CFF88A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405520" y="3416400"/>
            <a:ext cx="6357240" cy="546120"/>
            <a:chOff x="2405520" y="3416400"/>
            <a:chExt cx="6357240" cy="546120"/>
          </a:xfrm>
        </p:grpSpPr>
        <p:grpSp>
          <p:nvGrpSpPr>
            <p:cNvPr id="361" name=""/>
            <p:cNvGrpSpPr/>
            <p:nvPr/>
          </p:nvGrpSpPr>
          <p:grpSpPr>
            <a:xfrm>
              <a:off x="2438280" y="3429000"/>
              <a:ext cx="6324480" cy="533520"/>
              <a:chOff x="2438280" y="3429000"/>
              <a:chExt cx="6324480" cy="533520"/>
            </a:xfrm>
          </p:grpSpPr>
          <p:sp>
            <p:nvSpPr>
              <p:cNvPr id="362" name=""/>
              <p:cNvSpPr/>
              <p:nvPr/>
            </p:nvSpPr>
            <p:spPr>
              <a:xfrm>
                <a:off x="2438280" y="3429000"/>
                <a:ext cx="6324480" cy="53352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50000">
                    <a:srgbClr val="a2a2c7"/>
                  </a:gs>
                  <a:gs pos="100000">
                    <a:srgbClr val="0000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39800" y="3514680"/>
                <a:ext cx="61722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2405520" y="3416400"/>
              <a:ext cx="8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aptop 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100240" y="3641760"/>
            <a:ext cx="6357600" cy="549360"/>
            <a:chOff x="2100240" y="3641760"/>
            <a:chExt cx="6357600" cy="549360"/>
          </a:xfrm>
        </p:grpSpPr>
        <p:grpSp>
          <p:nvGrpSpPr>
            <p:cNvPr id="366" name=""/>
            <p:cNvGrpSpPr/>
            <p:nvPr/>
          </p:nvGrpSpPr>
          <p:grpSpPr>
            <a:xfrm>
              <a:off x="2133360" y="3657600"/>
              <a:ext cx="6324480" cy="533520"/>
              <a:chOff x="2133360" y="3657600"/>
              <a:chExt cx="6324480" cy="53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2133360" y="3657600"/>
                <a:ext cx="6324480" cy="53352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50000">
                    <a:srgbClr val="a2a2c7"/>
                  </a:gs>
                  <a:gs pos="100000">
                    <a:srgbClr val="0000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34880" y="3743280"/>
                <a:ext cx="61722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0240" y="364176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al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4895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Mobile Suite</a:t>
            </a:r>
            <a:endParaRPr b="1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714640" y="5040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Black"/>
              </a:rPr>
              <a:t>Comprehensive Mobile Infrastructur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828800" y="4495680"/>
            <a:ext cx="1523880" cy="1447920"/>
            <a:chOff x="1828800" y="4495680"/>
            <a:chExt cx="1523880" cy="1447920"/>
          </a:xfrm>
        </p:grpSpPr>
        <p:sp>
          <p:nvSpPr>
            <p:cNvPr id="373" name=""/>
            <p:cNvSpPr/>
            <p:nvPr/>
          </p:nvSpPr>
          <p:spPr>
            <a:xfrm>
              <a:off x="1828800" y="4495680"/>
              <a:ext cx="1523880" cy="14479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3400" y="4927680"/>
              <a:ext cx="123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ail &amp; PIM Sy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416400" y="4495680"/>
            <a:ext cx="1523880" cy="1447920"/>
            <a:chOff x="3416400" y="4495680"/>
            <a:chExt cx="1523880" cy="1447920"/>
          </a:xfrm>
        </p:grpSpPr>
        <p:sp>
          <p:nvSpPr>
            <p:cNvPr id="376" name=""/>
            <p:cNvSpPr/>
            <p:nvPr/>
          </p:nvSpPr>
          <p:spPr>
            <a:xfrm>
              <a:off x="3416400" y="4495680"/>
              <a:ext cx="1523880" cy="14479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52840" y="4927680"/>
              <a:ext cx="12344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Syn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003640" y="4495680"/>
            <a:ext cx="1549440" cy="1447920"/>
            <a:chOff x="5003640" y="4495680"/>
            <a:chExt cx="1549440" cy="1447920"/>
          </a:xfrm>
        </p:grpSpPr>
        <p:sp>
          <p:nvSpPr>
            <p:cNvPr id="379" name=""/>
            <p:cNvSpPr/>
            <p:nvPr/>
          </p:nvSpPr>
          <p:spPr>
            <a:xfrm>
              <a:off x="5003640" y="4495680"/>
              <a:ext cx="1523880" cy="14479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29200" y="4927680"/>
              <a:ext cx="15238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e &amp; Web Dis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591240" y="4495680"/>
            <a:ext cx="1523880" cy="1447920"/>
            <a:chOff x="6591240" y="4495680"/>
            <a:chExt cx="1523880" cy="1447920"/>
          </a:xfrm>
        </p:grpSpPr>
        <p:sp>
          <p:nvSpPr>
            <p:cNvPr id="382" name=""/>
            <p:cNvSpPr/>
            <p:nvPr/>
          </p:nvSpPr>
          <p:spPr>
            <a:xfrm>
              <a:off x="6591240" y="4495680"/>
              <a:ext cx="1523880" cy="14479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27680" y="4927680"/>
              <a:ext cx="123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s Mg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803240" y="6019920"/>
            <a:ext cx="6324480" cy="533160"/>
            <a:chOff x="1803240" y="6019920"/>
            <a:chExt cx="6324480" cy="533160"/>
          </a:xfrm>
        </p:grpSpPr>
        <p:sp>
          <p:nvSpPr>
            <p:cNvPr id="385" name=""/>
            <p:cNvSpPr/>
            <p:nvPr/>
          </p:nvSpPr>
          <p:spPr>
            <a:xfrm>
              <a:off x="1803240" y="6019920"/>
              <a:ext cx="6324480" cy="533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4760" y="6105600"/>
              <a:ext cx="6172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min Cons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803240" y="3886200"/>
            <a:ext cx="6324480" cy="533520"/>
            <a:chOff x="1803240" y="3886200"/>
            <a:chExt cx="6324480" cy="533520"/>
          </a:xfrm>
        </p:grpSpPr>
        <p:sp>
          <p:nvSpPr>
            <p:cNvPr id="388" name=""/>
            <p:cNvSpPr/>
            <p:nvPr/>
          </p:nvSpPr>
          <p:spPr>
            <a:xfrm>
              <a:off x="1803240" y="3886200"/>
              <a:ext cx="632448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a2a2c7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4760" y="3971880"/>
              <a:ext cx="6172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805040" y="387036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ket 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339360" y="741240"/>
            <a:ext cx="3745440" cy="2505960"/>
            <a:chOff x="3339360" y="741240"/>
            <a:chExt cx="3745440" cy="250596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4205520" y="1095480"/>
              <a:ext cx="1730160" cy="17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307840" y="93672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37040" y="136512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m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83120" y="1951200"/>
              <a:ext cx="1201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ic 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nchron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6280" y="2560680"/>
              <a:ext cx="1305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anced Da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nchroniz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83640" y="1984320"/>
              <a:ext cx="892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9360" y="1255680"/>
              <a:ext cx="981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71000" y="290988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95920" y="2612880"/>
              <a:ext cx="82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27320" y="741240"/>
              <a:ext cx="960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sonaliz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1828800" y="6019920"/>
            <a:ext cx="6273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3" action="ppaction://hlinksldjump"/>
          </p:cNvPr>
          <p:cNvSpPr/>
          <p:nvPr/>
        </p:nvSpPr>
        <p:spPr>
          <a:xfrm>
            <a:off x="1828800" y="3873600"/>
            <a:ext cx="6273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6A2-0901-4CB9-B392-7E5991F811A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twood Oceanics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7655040" y="3962520"/>
            <a:ext cx="1336680" cy="1295280"/>
          </a:xfrm>
          <a:prstGeom prst="rect">
            <a:avLst/>
          </a:prstGeom>
          <a:ln w="63360">
            <a:solidFill>
              <a:srgbClr val="ccccff"/>
            </a:solidFill>
            <a:miter/>
          </a:ln>
        </p:spPr>
      </p:pic>
      <p:sp>
        <p:nvSpPr>
          <p:cNvPr id="406" name=""/>
          <p:cNvSpPr/>
          <p:nvPr/>
        </p:nvSpPr>
        <p:spPr>
          <a:xfrm>
            <a:off x="1066680" y="396252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reased exposure to and management of drilling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mproved customer service level with increase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duction in data communication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yback achieved in 6 months of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se of maintenance due to robust administrative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37016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lleng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 to overcome unreliable communications with offshore oil rigs and guarantee up-to-date operations data was available at corpo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logic 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mplemente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vanced Data Synchronization to provide more reliable and more efficient data flows between rigs, flexibly using whatever communications mode was available to a particular 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809880" y="0"/>
          <a:ext cx="1600200" cy="98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0"/>
                    <a:ext cx="16002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79A-D9F9-4B97-9A4D-39BDDF08204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828800" y="763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Key Deploy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0" r="0" b="38027"/>
          <a:stretch/>
        </p:blipFill>
        <p:spPr>
          <a:xfrm>
            <a:off x="4191120" y="6094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56544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18080" y="2403360"/>
            <a:ext cx="512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41760" y="2403360"/>
            <a:ext cx="519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76520" y="1828800"/>
            <a:ext cx="746748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80 surveyors of heavy-engineering 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udit Reporting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 of over 300,000 types of plant(cranes, escalators, etc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elevant customer contact information integ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ains schedule of inspections and past hi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 problems found and advise actions to t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jitsu touch screen lapt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effectiv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y integration with in-house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 indent="-17136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e data errors and eliminate re-ke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39D-BC98-4ACD-ABF8-B22932DC1A16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228600"/>
            <a:ext cx="7238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Enterprise Mobile Comput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669000" y="2249640"/>
            <a:ext cx="20340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8480" y="5146560"/>
            <a:ext cx="190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ktop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 &amp;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4927680"/>
            <a:ext cx="224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-base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 &amp;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6160" y="4545000"/>
            <a:ext cx="22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10160" y="3843360"/>
            <a:ext cx="22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3143160"/>
            <a:ext cx="22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Data Sync – data collection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0" y="2276640"/>
            <a:ext cx="22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Data Sync – core enterprise apps, CRM, ERP, S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32160" y="5629320"/>
            <a:ext cx="33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ity &amp;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11400">
            <a:off x="-82728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427040" y="5119200"/>
            <a:ext cx="339840" cy="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9440" y="4898520"/>
            <a:ext cx="1011960" cy="18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60720" y="4545000"/>
            <a:ext cx="102060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86160" y="3971880"/>
            <a:ext cx="952560" cy="50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307120" y="3333240"/>
            <a:ext cx="74916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64200" y="2689920"/>
            <a:ext cx="52884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6880" y="4991040"/>
            <a:ext cx="204840" cy="1922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5880" y="4800600"/>
            <a:ext cx="204840" cy="190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1320" y="4417920"/>
            <a:ext cx="204840" cy="190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70320" y="3844800"/>
            <a:ext cx="204840" cy="1908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7880" y="3206880"/>
            <a:ext cx="204840" cy="190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2560" y="2505240"/>
            <a:ext cx="204840" cy="1918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7720" y="1676520"/>
            <a:ext cx="0" cy="395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7720" y="5629320"/>
            <a:ext cx="748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923920" y="2565360"/>
            <a:ext cx="3540240" cy="2184480"/>
            <a:chOff x="2923920" y="2565360"/>
            <a:chExt cx="3540240" cy="2184480"/>
          </a:xfrm>
        </p:grpSpPr>
        <p:sp>
          <p:nvSpPr>
            <p:cNvPr id="119" name=""/>
            <p:cNvSpPr/>
            <p:nvPr/>
          </p:nvSpPr>
          <p:spPr>
            <a:xfrm>
              <a:off x="2971800" y="2971800"/>
              <a:ext cx="0" cy="177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23920" y="2629080"/>
              <a:ext cx="2752920" cy="337320"/>
              <a:chOff x="2923920" y="2629080"/>
              <a:chExt cx="2752920" cy="33732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8840" y="2654280"/>
                <a:ext cx="271800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23920" y="2629080"/>
                <a:ext cx="204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Corporate” dev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178160" y="2971800"/>
              <a:ext cx="0" cy="139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800" y="29718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895480"/>
              <a:ext cx="368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638680" y="2565360"/>
              <a:ext cx="82548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54360" y="1657440"/>
            <a:ext cx="2717640" cy="3282840"/>
            <a:chOff x="1854360" y="1657440"/>
            <a:chExt cx="2717640" cy="3282840"/>
          </a:xfrm>
        </p:grpSpPr>
        <p:sp>
          <p:nvSpPr>
            <p:cNvPr id="128" name=""/>
            <p:cNvSpPr/>
            <p:nvPr/>
          </p:nvSpPr>
          <p:spPr>
            <a:xfrm>
              <a:off x="1866960" y="1981080"/>
              <a:ext cx="0" cy="29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54360" y="1676520"/>
              <a:ext cx="271764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61200" y="165744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Personal”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1A9-4B13-4153-99DD-5EF9E646F8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The Mobile Computing Challenge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343400"/>
            <a:ext cx="123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8480" y="1066680"/>
            <a:ext cx="799776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517-A49D-4D2D-861E-51047A9CA2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The Synchrologic Solution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800100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C78-65A5-4F54-9CB0-4938A24A01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61280" y="3886200"/>
            <a:ext cx="1706400" cy="137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132084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ynchrologic Solution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1600200"/>
            <a:ext cx="1143000" cy="3657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2133720"/>
            <a:ext cx="34290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ail &amp; PIM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274320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 Synchro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3276720"/>
            <a:ext cx="342900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3809880"/>
            <a:ext cx="34290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077320" y="2286000"/>
            <a:ext cx="1066680" cy="915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467480" y="1752480"/>
            <a:ext cx="700200" cy="99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543800" y="3200400"/>
            <a:ext cx="52848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8153280" y="3276720"/>
            <a:ext cx="74772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DC6-D9A5-44F9-89E2-C7B27907EF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Easy to use Interface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3578040" cy="4653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380880" y="1981080"/>
            <a:ext cx="3505320" cy="703800"/>
            <a:chOff x="380880" y="1981080"/>
            <a:chExt cx="3505320" cy="703800"/>
          </a:xfrm>
        </p:grpSpPr>
        <p:sp>
          <p:nvSpPr>
            <p:cNvPr id="152" name=""/>
            <p:cNvSpPr/>
            <p:nvPr/>
          </p:nvSpPr>
          <p:spPr>
            <a:xfrm>
              <a:off x="2743200" y="2286000"/>
              <a:ext cx="1143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0880" y="1981080"/>
              <a:ext cx="24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imple one-touch user exper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0880" y="3733920"/>
            <a:ext cx="3505320" cy="398880"/>
            <a:chOff x="380880" y="3733920"/>
            <a:chExt cx="3505320" cy="398880"/>
          </a:xfrm>
        </p:grpSpPr>
        <p:sp>
          <p:nvSpPr>
            <p:cNvPr id="155" name=""/>
            <p:cNvSpPr/>
            <p:nvPr/>
          </p:nvSpPr>
          <p:spPr>
            <a:xfrm>
              <a:off x="2743200" y="3962160"/>
              <a:ext cx="114300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37339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asy “status inf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838080" y="5181480"/>
            <a:ext cx="3048120" cy="703800"/>
            <a:chOff x="838080" y="5181480"/>
            <a:chExt cx="3048120" cy="703800"/>
          </a:xfrm>
        </p:grpSpPr>
        <p:sp>
          <p:nvSpPr>
            <p:cNvPr id="158" name=""/>
            <p:cNvSpPr/>
            <p:nvPr/>
          </p:nvSpPr>
          <p:spPr>
            <a:xfrm>
              <a:off x="2971800" y="54100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080" y="51814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uick access to    Files &amp; Web S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D40-F331-4A13-A07F-4910F5C0CE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Get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what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 you want </a:t>
            </a:r>
            <a:br>
              <a:rPr sz="36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when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 you want it!</a:t>
            </a:r>
            <a:endParaRPr b="1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2934000" cy="381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548640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usability for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802.1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GS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GPR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0" y="1523880"/>
            <a:ext cx="4954680" cy="3306960"/>
            <a:chOff x="2286000" y="1523880"/>
            <a:chExt cx="4954680" cy="3306960"/>
          </a:xfrm>
        </p:grpSpPr>
        <p:sp>
          <p:nvSpPr>
            <p:cNvPr id="164" name=""/>
            <p:cNvSpPr/>
            <p:nvPr/>
          </p:nvSpPr>
          <p:spPr>
            <a:xfrm>
              <a:off x="2286000" y="2286000"/>
              <a:ext cx="2438640" cy="380880"/>
            </a:xfrm>
            <a:custGeom>
              <a:avLst/>
              <a:gdLst>
                <a:gd name="textAreaLeft" fmla="*/ 380880 w 2438640"/>
                <a:gd name="textAreaRight" fmla="*/ 2134080 w 24386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4724640" y="1523880"/>
            <a:ext cx="2516040" cy="3306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24640" y="1523880"/>
                      <a:ext cx="2516040" cy="330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7" name=""/>
          <p:cNvGrpSpPr/>
          <p:nvPr/>
        </p:nvGrpSpPr>
        <p:grpSpPr>
          <a:xfrm>
            <a:off x="5562720" y="2286000"/>
            <a:ext cx="2666880" cy="3886200"/>
            <a:chOff x="5562720" y="2286000"/>
            <a:chExt cx="2666880" cy="388620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5562720" y="2743200"/>
              <a:ext cx="26668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5400000">
              <a:off x="6661080" y="2357640"/>
              <a:ext cx="533520" cy="39024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97560 h 390240"/>
                <a:gd name="textAreaBottom" fmla="*/ 29268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5410080"/>
            <a:ext cx="434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n be easily be “locked down”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PC Configu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cket PC Marketing Summ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53F-2C0D-42F7-9D2E-AA33AFCDC4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14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9:00:12Z</dcterms:created>
  <dc:creator/>
  <dc:description>Template design: Silverfox Productions
Graphic Designer: Polly Macomber
Formatter:</dc:description>
  <dc:language>en-US</dc:language>
  <cp:lastModifiedBy>Martin Reime</cp:lastModifiedBy>
  <dcterms:modified xsi:type="dcterms:W3CDTF">2002-06-02T16:44:55Z</dcterms:modified>
  <cp:revision>253</cp:revision>
  <dc:subject/>
  <dc:title>PowerPoint Presentation</dc:title>
</cp:coreProperties>
</file>