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4.png" ContentType="image/png"/>
  <Override PartName="/ppt/media/image38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3.wmf" ContentType="image/x-wmf"/>
  <Override PartName="/ppt/media/image41.png" ContentType="image/png"/>
  <Override PartName="/ppt/media/image9.wmf" ContentType="image/x-wmf"/>
  <Override PartName="/ppt/media/image42.png" ContentType="image/png"/>
  <Override PartName="/ppt/media/image43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4.wmf" ContentType="image/x-wmf"/>
  <Override PartName="/ppt/media/image30.png" ContentType="image/png"/>
  <Override PartName="/ppt/media/image3.jpeg" ContentType="image/jpeg"/>
  <Override PartName="/ppt/media/image1.png" ContentType="image/png"/>
  <Override PartName="/ppt/media/image3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06476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06476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5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52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06476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06476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064760"/>
            <a:ext cx="247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52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52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55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06476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520"/>
            <a:ext cx="3755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7696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8404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276720" y="4870080"/>
            <a:ext cx="579096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rtal Architectu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ew Wag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ew.wagar@sun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re’ 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5334120"/>
            <a:ext cx="2818440" cy="1373040"/>
            <a:chOff x="3352680" y="5334120"/>
            <a:chExt cx="2818440" cy="1373040"/>
          </a:xfrm>
        </p:grpSpPr>
        <p:sp>
          <p:nvSpPr>
            <p:cNvPr id="319" name=""/>
            <p:cNvSpPr/>
            <p:nvPr/>
          </p:nvSpPr>
          <p:spPr>
            <a:xfrm>
              <a:off x="3962520" y="5334120"/>
              <a:ext cx="1523880" cy="703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2680" y="6265800"/>
              <a:ext cx="2818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 anchorCtr="1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Java, XML &amp; 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14400" y="4513320"/>
            <a:ext cx="838080" cy="41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4513320"/>
            <a:ext cx="838080" cy="41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4513320"/>
            <a:ext cx="914400" cy="41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4513320"/>
            <a:ext cx="838440" cy="41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1000" y="4513320"/>
            <a:ext cx="838080" cy="41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19920" y="4513320"/>
            <a:ext cx="838080" cy="41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4513320"/>
            <a:ext cx="838440" cy="41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4513320"/>
            <a:ext cx="914400" cy="41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3141720"/>
            <a:ext cx="7924680" cy="13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rtal Server - Service Deli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 Aggregation, Personalis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presentation, Membership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2133720"/>
            <a:ext cx="152388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09200" y="1600200"/>
            <a:ext cx="2573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 v4+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ne Infrastructure, Many Por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17160" y="1741320"/>
            <a:ext cx="7223760" cy="4811760"/>
            <a:chOff x="1217160" y="1741320"/>
            <a:chExt cx="7223760" cy="4811760"/>
          </a:xfrm>
        </p:grpSpPr>
        <p:sp>
          <p:nvSpPr>
            <p:cNvPr id="334" name=""/>
            <p:cNvSpPr/>
            <p:nvPr/>
          </p:nvSpPr>
          <p:spPr>
            <a:xfrm>
              <a:off x="5296320" y="17596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Part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1867680" y="1741320"/>
              <a:ext cx="3353040" cy="26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2678400" y="2379600"/>
              <a:ext cx="3251160" cy="25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3399480" y="3138120"/>
              <a:ext cx="3237480" cy="25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619320" y="311400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26760" y="235656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4199760" y="3726360"/>
              <a:ext cx="3106800" cy="28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02960" y="37800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7160" y="4060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9640" y="4737240"/>
              <a:ext cx="125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B2B &amp; B2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07280" y="54694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14040" y="6215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B2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bil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76960"/>
            <a:ext cx="838080" cy="41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5376960"/>
            <a:ext cx="838080" cy="41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5376960"/>
            <a:ext cx="914400" cy="41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376960"/>
            <a:ext cx="838440" cy="41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5376960"/>
            <a:ext cx="838080" cy="414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19920" y="5376960"/>
            <a:ext cx="838080" cy="41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0280" y="5376960"/>
            <a:ext cx="838440" cy="41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376960"/>
            <a:ext cx="914400" cy="41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4005360"/>
            <a:ext cx="7924680" cy="13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rtal 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14400" y="1523880"/>
            <a:ext cx="4113000" cy="2467080"/>
            <a:chOff x="914400" y="1523880"/>
            <a:chExt cx="4113000" cy="2467080"/>
          </a:xfrm>
        </p:grpSpPr>
        <p:sp>
          <p:nvSpPr>
            <p:cNvPr id="357" name=""/>
            <p:cNvSpPr/>
            <p:nvPr/>
          </p:nvSpPr>
          <p:spPr>
            <a:xfrm>
              <a:off x="914400" y="3243240"/>
              <a:ext cx="3962520" cy="7477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bile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 Device, Content Rend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8200" y="1523880"/>
              <a:ext cx="4039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 anchorCtr="1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DA, Wap/GPRS/3G 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81080" y="2133720"/>
              <a:ext cx="1524240" cy="6858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248520" y="2133720"/>
            <a:ext cx="152388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54920" y="1611360"/>
            <a:ext cx="1542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y v4+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1960" y="5943600"/>
            <a:ext cx="9144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3800" y="6564240"/>
            <a:ext cx="168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, XML &amp;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vice Indepen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78000" y="2516040"/>
            <a:ext cx="5522760" cy="3986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1822320" cy="4811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062000" y="2057400"/>
            <a:ext cx="2222640" cy="2989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324480" y="2666880"/>
            <a:ext cx="1890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cure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14400" y="5410080"/>
            <a:ext cx="7696080" cy="414360"/>
            <a:chOff x="914400" y="5410080"/>
            <a:chExt cx="7696080" cy="414360"/>
          </a:xfrm>
        </p:grpSpPr>
        <p:sp>
          <p:nvSpPr>
            <p:cNvPr id="371" name=""/>
            <p:cNvSpPr/>
            <p:nvPr/>
          </p:nvSpPr>
          <p:spPr>
            <a:xfrm>
              <a:off x="914400" y="5410080"/>
              <a:ext cx="814320" cy="41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76320" y="5410080"/>
              <a:ext cx="814320" cy="41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00520" y="5410080"/>
              <a:ext cx="887400" cy="41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38600" y="5410080"/>
              <a:ext cx="814320" cy="41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96160" y="5410080"/>
              <a:ext cx="814320" cy="414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dic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72320" y="5410080"/>
              <a:ext cx="814320" cy="414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34240" y="5410080"/>
              <a:ext cx="814320" cy="414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/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6960" y="5410080"/>
              <a:ext cx="887400" cy="414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914400" y="4038480"/>
            <a:ext cx="7696080" cy="1357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rtal 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3276720"/>
            <a:ext cx="3848040" cy="7477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3600" y="1676520"/>
            <a:ext cx="2399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DA, Wap/GPRS/3G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2362320"/>
            <a:ext cx="152424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114800" y="1600200"/>
            <a:ext cx="5029200" cy="2438280"/>
            <a:chOff x="4114800" y="1600200"/>
            <a:chExt cx="5029200" cy="2438280"/>
          </a:xfrm>
        </p:grpSpPr>
        <p:sp>
          <p:nvSpPr>
            <p:cNvPr id="384" name=""/>
            <p:cNvSpPr/>
            <p:nvPr/>
          </p:nvSpPr>
          <p:spPr>
            <a:xfrm>
              <a:off x="4762440" y="3276720"/>
              <a:ext cx="3848040" cy="7617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e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PN, File Transfer, Intranet Browsin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19920" y="2209680"/>
              <a:ext cx="1523880" cy="6858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14800" y="1600200"/>
              <a:ext cx="5029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 anchorCtr="1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rowser, Secure, Encrypted, VP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341960" y="5940360"/>
            <a:ext cx="9144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3800" y="6561000"/>
            <a:ext cx="168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, XML &amp;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ranet 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919440" y="1523880"/>
            <a:ext cx="7843680" cy="1941480"/>
            <a:chOff x="919440" y="1523880"/>
            <a:chExt cx="7843680" cy="1941480"/>
          </a:xfrm>
        </p:grpSpPr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6400800" y="1523880"/>
              <a:ext cx="236232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19440" y="1676520"/>
              <a:ext cx="5336280" cy="13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 anchorCtr="1">
              <a:spAutoFit/>
            </a:bodyPr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emote User receives identical page but different 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o complex firewall rules or 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xtranets ‘on deman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ll communication via Portal provided VP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62120" y="4876920"/>
            <a:ext cx="7580520" cy="1941480"/>
            <a:chOff x="762120" y="4876920"/>
            <a:chExt cx="7580520" cy="194148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762120" y="4876920"/>
              <a:ext cx="236196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546000" y="5486400"/>
              <a:ext cx="47966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 anchorCtr="1">
              <a:spAutoFit/>
            </a:bodyPr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ntranet users browse internal website as 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66680" y="3733920"/>
            <a:ext cx="7574040" cy="1041480"/>
            <a:chOff x="1066680" y="3733920"/>
            <a:chExt cx="7574040" cy="1041480"/>
          </a:xfrm>
        </p:grpSpPr>
        <p:sp>
          <p:nvSpPr>
            <p:cNvPr id="397" name=""/>
            <p:cNvSpPr/>
            <p:nvPr/>
          </p:nvSpPr>
          <p:spPr>
            <a:xfrm>
              <a:off x="1066680" y="4114800"/>
              <a:ext cx="487692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rtal Serv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19440" y="3733920"/>
              <a:ext cx="2324160" cy="3808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e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86040" y="3733920"/>
              <a:ext cx="2254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 anchorCtr="1">
              <a:spAutoFit/>
            </a:bodyPr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ortal ‘rewrites’ 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on dema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livers via ht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vide Desktop ‘To Go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14400" y="1571760"/>
            <a:ext cx="6552720" cy="4905000"/>
            <a:chOff x="914400" y="1571760"/>
            <a:chExt cx="6552720" cy="490500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933120" y="1571760"/>
              <a:ext cx="3448800" cy="33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1947600" y="2486880"/>
              <a:ext cx="3713760" cy="28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3904560" y="3092400"/>
              <a:ext cx="356256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341240" y="1785240"/>
              <a:ext cx="145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in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4400" y="5717880"/>
              <a:ext cx="30873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n 95/98/Me/NT/2000/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13960" y="2543040"/>
              <a:ext cx="146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vision Apps via Portal 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105520" y="1752480"/>
            <a:ext cx="3057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scape Me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2743200"/>
            <a:ext cx="3057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5943600"/>
            <a:ext cx="305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tus Notes / Act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2362320" y="262908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733920" y="4648320"/>
            <a:ext cx="4876560" cy="2007720"/>
            <a:chOff x="3733920" y="4648320"/>
            <a:chExt cx="4876560" cy="2007720"/>
          </a:xfrm>
        </p:grpSpPr>
        <p:sp>
          <p:nvSpPr>
            <p:cNvPr id="416" name=""/>
            <p:cNvSpPr/>
            <p:nvPr/>
          </p:nvSpPr>
          <p:spPr>
            <a:xfrm>
              <a:off x="5943600" y="4648320"/>
              <a:ext cx="2666880" cy="11430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52880" y="5257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33920" y="5867280"/>
              <a:ext cx="373356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 anchorCtr="1">
              <a:spAutoFit/>
            </a:bodyPr>
            <a:p>
              <a:pPr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earch, Taxonomy, Indexing,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14400" y="4648320"/>
            <a:ext cx="4876560" cy="414360"/>
            <a:chOff x="914400" y="4648320"/>
            <a:chExt cx="4876560" cy="414360"/>
          </a:xfrm>
        </p:grpSpPr>
        <p:sp>
          <p:nvSpPr>
            <p:cNvPr id="421" name=""/>
            <p:cNvSpPr/>
            <p:nvPr/>
          </p:nvSpPr>
          <p:spPr>
            <a:xfrm>
              <a:off x="914400" y="4648320"/>
              <a:ext cx="515880" cy="41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23880" y="4648320"/>
              <a:ext cx="515880" cy="41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3200" y="4648320"/>
              <a:ext cx="562320" cy="41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g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3720" y="4648320"/>
              <a:ext cx="515880" cy="41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75080" y="4648320"/>
              <a:ext cx="515880" cy="414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ndic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56120" y="4648320"/>
              <a:ext cx="515880" cy="414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65600" y="4648320"/>
              <a:ext cx="515880" cy="414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/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99840" y="4648320"/>
              <a:ext cx="562320" cy="414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14400" y="3276720"/>
            <a:ext cx="7696080" cy="13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rtal 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4400" y="2514600"/>
            <a:ext cx="3848040" cy="7477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62440" y="2514600"/>
            <a:ext cx="3848040" cy="7621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257800"/>
            <a:ext cx="914400" cy="533520"/>
          </a:xfrm>
          <a:prstGeom prst="upArrow">
            <a:avLst>
              <a:gd name="adj1" fmla="val 43750"/>
              <a:gd name="adj2" fmla="val 2768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73280" y="5878440"/>
            <a:ext cx="168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, XML &amp; 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72200" y="1447920"/>
            <a:ext cx="2399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DA, Wap/GPRS/3G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14600" y="1828800"/>
            <a:ext cx="8380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51120" y="1447920"/>
            <a:ext cx="2937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rowser, Secure, Encrypted, 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3080" y="1828800"/>
            <a:ext cx="83844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rsonalisation of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95280" y="4495680"/>
            <a:ext cx="75438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search s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personalized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59436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n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97160" y="1711440"/>
            <a:ext cx="60703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00+ Live Portal Servers world-w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cal technical expertise in all Ge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ven scalability and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ven standards adh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ven integration and exten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ture product, 3+ years, V3.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n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4709880" cy="3873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942160" y="1676520"/>
            <a:ext cx="204120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e B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ces all 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s to ‘Jav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XA On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41440" y="1676520"/>
            <a:ext cx="20552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2B and B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or/Tr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gle Porta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loyee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004760" y="1752480"/>
            <a:ext cx="4633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NT Va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4040" y="1676520"/>
            <a:ext cx="2977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2B and B2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ed for increa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share of 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l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onymous desk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egated 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019160" y="1752480"/>
            <a:ext cx="4467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 Department of Def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066680" y="1712880"/>
            <a:ext cx="4496040" cy="3697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796000" y="1600200"/>
            <a:ext cx="33480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ed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5 Million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0 CPUs of Porta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urrency aimed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50,000 - 600,000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ltimate HA and Scalability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ied and Tested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ndards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ven Integ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ven Deli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 / Scal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ployment Expert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86200" y="2533680"/>
            <a:ext cx="1471680" cy="7858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71800" y="4204800"/>
            <a:ext cx="43434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66cc"/>
                </a:solidFill>
                <a:latin typeface="Arial Black"/>
              </a:rPr>
              <a:t>Sun</a:t>
            </a:r>
            <a:r>
              <a:rPr b="0" lang="en-GB" sz="2400" spc="-1" strike="noStrike" baseline="100000">
                <a:solidFill>
                  <a:srgbClr val="6666cc"/>
                </a:solidFill>
                <a:latin typeface="Arial Black"/>
              </a:rPr>
              <a:t>TM</a:t>
            </a:r>
            <a:r>
              <a:rPr b="0" lang="en-GB" sz="2400" spc="-1" strike="noStrike">
                <a:solidFill>
                  <a:srgbClr val="6666cc"/>
                </a:solidFill>
                <a:latin typeface="Arial Black"/>
              </a:rPr>
              <a:t> </a:t>
            </a:r>
            <a:r>
              <a:rPr b="0" lang="en-GB" sz="6000" spc="-1" strike="noStrike">
                <a:solidFill>
                  <a:srgbClr val="6666cc"/>
                </a:solidFill>
                <a:latin typeface="Arial Black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124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600200"/>
            <a:ext cx="8229600" cy="1676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n ONE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1603440" cy="1612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1622520" cy="16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1603440" cy="1612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5931000"/>
            <a:ext cx="8229600" cy="6984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onsolidate User profiles, Manage Policy, Simplify Admin, Increase performa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029200"/>
            <a:ext cx="8229600" cy="762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gr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onsolidate UI, data and applications. Provide Business proces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191120"/>
            <a:ext cx="8229600" cy="7333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Traditional Services, Mail, Calendar,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548400" y="1600200"/>
            <a:ext cx="1604880" cy="1612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3352680"/>
            <a:ext cx="8229600" cy="7336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liver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Provide Portal framework, support for browser, PDA, WAP, SMS, 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gration Value Pro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587"/>
              </a:spcBef>
              <a:spcAft>
                <a:spcPts val="587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nies Integrate Applications 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32616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omething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Exis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32616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omething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ew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587"/>
              </a:spcBef>
              <a:spcAft>
                <a:spcPts val="587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ypically Fall in Two Are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32616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Mon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manual Intervention out of a Process (Order Fulfillment, Inventory managemen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better with Suppliers, Business Partners, o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32616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Mon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ew Products or Services (Web Enabled, (New combinations of Products,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440" indent="-275400">
              <a:lnSpc>
                <a:spcPct val="85000"/>
              </a:lnSpc>
              <a:spcAft>
                <a:spcPts val="561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tter Service (Complete On-line Loan Approval, Purchase PC and On-line Service with singl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gration is moving from thi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01800" y="1828800"/>
            <a:ext cx="7482960" cy="4743000"/>
            <a:chOff x="901800" y="1828800"/>
            <a:chExt cx="7482960" cy="4743000"/>
          </a:xfrm>
        </p:grpSpPr>
        <p:sp>
          <p:nvSpPr>
            <p:cNvPr id="57" name=""/>
            <p:cNvSpPr/>
            <p:nvPr/>
          </p:nvSpPr>
          <p:spPr>
            <a:xfrm>
              <a:off x="7237800" y="556272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vi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621320" y="5079960"/>
              <a:ext cx="720720" cy="495360"/>
              <a:chOff x="4621320" y="5079960"/>
              <a:chExt cx="720720" cy="495360"/>
            </a:xfrm>
          </p:grpSpPr>
          <p:sp>
            <p:nvSpPr>
              <p:cNvPr id="59" name=""/>
              <p:cNvSpPr/>
              <p:nvPr/>
            </p:nvSpPr>
            <p:spPr>
              <a:xfrm>
                <a:off x="4621320" y="516312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21320" y="507996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21320" y="541008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3967200" y="1828800"/>
              <a:ext cx="2619360" cy="420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Internal Us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38200" y="2333520"/>
              <a:ext cx="1120680" cy="452880"/>
              <a:chOff x="2338200" y="2333520"/>
              <a:chExt cx="1120680" cy="45288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338200" y="2333520"/>
                <a:ext cx="551160" cy="452880"/>
                <a:chOff x="2338200" y="2333520"/>
                <a:chExt cx="551160" cy="45288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2338200" y="2653200"/>
                  <a:ext cx="551160" cy="133200"/>
                  <a:chOff x="2338200" y="2653200"/>
                  <a:chExt cx="551160" cy="1332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2338200" y="2653200"/>
                    <a:ext cx="55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75">
                        <a:moveTo>
                          <a:pt x="45" y="0"/>
                        </a:moveTo>
                        <a:lnTo>
                          <a:pt x="317" y="0"/>
                        </a:lnTo>
                        <a:lnTo>
                          <a:pt x="359" y="67"/>
                        </a:lnTo>
                        <a:lnTo>
                          <a:pt x="360" y="70"/>
                        </a:lnTo>
                        <a:lnTo>
                          <a:pt x="358" y="73"/>
                        </a:lnTo>
                        <a:lnTo>
                          <a:pt x="356" y="74"/>
                        </a:lnTo>
                        <a:lnTo>
                          <a:pt x="5" y="74"/>
                        </a:lnTo>
                        <a:lnTo>
                          <a:pt x="2" y="73"/>
                        </a:lnTo>
                        <a:lnTo>
                          <a:pt x="0" y="69"/>
                        </a:lnTo>
                        <a:lnTo>
                          <a:pt x="1" y="66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368440" y="2681280"/>
                    <a:ext cx="3664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48">
                        <a:moveTo>
                          <a:pt x="32" y="0"/>
                        </a:moveTo>
                        <a:lnTo>
                          <a:pt x="228" y="0"/>
                        </a:lnTo>
                        <a:lnTo>
                          <a:pt x="239" y="47"/>
                        </a:lnTo>
                        <a:lnTo>
                          <a:pt x="0" y="47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745720" y="268128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8">
                        <a:moveTo>
                          <a:pt x="0" y="0"/>
                        </a:moveTo>
                        <a:lnTo>
                          <a:pt x="43" y="0"/>
                        </a:lnTo>
                        <a:lnTo>
                          <a:pt x="72" y="47"/>
                        </a:lnTo>
                        <a:lnTo>
                          <a:pt x="13" y="4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2464920" y="2333520"/>
                  <a:ext cx="294480" cy="31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505960" y="2376360"/>
                  <a:ext cx="212040" cy="216000"/>
                </a:xfrm>
                <a:prstGeom prst="rect">
                  <a:avLst/>
                </a:prstGeom>
                <a:solidFill>
                  <a:srgbClr val="105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95320" y="2613960"/>
                  <a:ext cx="2592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907720" y="2333520"/>
                <a:ext cx="551160" cy="452880"/>
                <a:chOff x="2907720" y="2333520"/>
                <a:chExt cx="551160" cy="4528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907720" y="2653200"/>
                  <a:ext cx="551160" cy="133200"/>
                  <a:chOff x="2907720" y="2653200"/>
                  <a:chExt cx="551160" cy="1332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907720" y="2653200"/>
                    <a:ext cx="55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75">
                        <a:moveTo>
                          <a:pt x="45" y="0"/>
                        </a:moveTo>
                        <a:lnTo>
                          <a:pt x="317" y="0"/>
                        </a:lnTo>
                        <a:lnTo>
                          <a:pt x="359" y="67"/>
                        </a:lnTo>
                        <a:lnTo>
                          <a:pt x="360" y="70"/>
                        </a:lnTo>
                        <a:lnTo>
                          <a:pt x="358" y="73"/>
                        </a:lnTo>
                        <a:lnTo>
                          <a:pt x="356" y="74"/>
                        </a:lnTo>
                        <a:lnTo>
                          <a:pt x="5" y="74"/>
                        </a:lnTo>
                        <a:lnTo>
                          <a:pt x="2" y="73"/>
                        </a:lnTo>
                        <a:lnTo>
                          <a:pt x="0" y="69"/>
                        </a:lnTo>
                        <a:lnTo>
                          <a:pt x="1" y="66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938320" y="2681280"/>
                    <a:ext cx="3661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48">
                        <a:moveTo>
                          <a:pt x="32" y="0"/>
                        </a:moveTo>
                        <a:lnTo>
                          <a:pt x="228" y="0"/>
                        </a:lnTo>
                        <a:lnTo>
                          <a:pt x="239" y="47"/>
                        </a:lnTo>
                        <a:lnTo>
                          <a:pt x="0" y="47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315240" y="268128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8">
                        <a:moveTo>
                          <a:pt x="0" y="0"/>
                        </a:moveTo>
                        <a:lnTo>
                          <a:pt x="43" y="0"/>
                        </a:lnTo>
                        <a:lnTo>
                          <a:pt x="72" y="47"/>
                        </a:lnTo>
                        <a:lnTo>
                          <a:pt x="13" y="4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>
                  <a:off x="3034080" y="2333520"/>
                  <a:ext cx="294480" cy="31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75480" y="2376360"/>
                  <a:ext cx="212040" cy="216000"/>
                </a:xfrm>
                <a:prstGeom prst="rect">
                  <a:avLst/>
                </a:prstGeom>
                <a:solidFill>
                  <a:srgbClr val="105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264840" y="2613960"/>
                  <a:ext cx="2592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>
              <a:off x="2239920" y="1828800"/>
              <a:ext cx="1231920" cy="420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40600" y="1828800"/>
              <a:ext cx="1095480" cy="420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Suppl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84400" y="4724280"/>
              <a:ext cx="180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95920" y="4660920"/>
              <a:ext cx="144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627280" y="4991040"/>
              <a:ext cx="720720" cy="495360"/>
              <a:chOff x="2627280" y="4991040"/>
              <a:chExt cx="720720" cy="4953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7280" y="507420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7280" y="499104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27280" y="532116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278240" y="4940280"/>
              <a:ext cx="720720" cy="495360"/>
              <a:chOff x="4278240" y="4940280"/>
              <a:chExt cx="720720" cy="495360"/>
            </a:xfrm>
          </p:grpSpPr>
          <p:sp>
            <p:nvSpPr>
              <p:cNvPr id="89" name=""/>
              <p:cNvSpPr/>
              <p:nvPr/>
            </p:nvSpPr>
            <p:spPr>
              <a:xfrm>
                <a:off x="4278240" y="502344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78240" y="494028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78240" y="527040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612800" y="3127320"/>
              <a:ext cx="745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210440" y="2322360"/>
              <a:ext cx="550800" cy="464400"/>
              <a:chOff x="7210440" y="2322360"/>
              <a:chExt cx="550800" cy="46440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7210440" y="2651400"/>
                <a:ext cx="550800" cy="135360"/>
                <a:chOff x="7210440" y="2651400"/>
                <a:chExt cx="550800" cy="135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210440" y="2651400"/>
                  <a:ext cx="550800" cy="135360"/>
                </a:xfrm>
                <a:custGeom>
                  <a:avLst/>
                  <a:gdLst/>
                  <a:ahLst/>
                  <a:rect l="l" t="t" r="r" b="b"/>
                  <a:pathLst>
                    <a:path w="361" h="76">
                      <a:moveTo>
                        <a:pt x="45" y="0"/>
                      </a:moveTo>
                      <a:lnTo>
                        <a:pt x="317" y="0"/>
                      </a:lnTo>
                      <a:lnTo>
                        <a:pt x="359" y="68"/>
                      </a:lnTo>
                      <a:lnTo>
                        <a:pt x="360" y="71"/>
                      </a:lnTo>
                      <a:lnTo>
                        <a:pt x="358" y="74"/>
                      </a:lnTo>
                      <a:lnTo>
                        <a:pt x="356" y="75"/>
                      </a:lnTo>
                      <a:lnTo>
                        <a:pt x="5" y="75"/>
                      </a:lnTo>
                      <a:lnTo>
                        <a:pt x="2" y="74"/>
                      </a:lnTo>
                      <a:lnTo>
                        <a:pt x="0" y="70"/>
                      </a:lnTo>
                      <a:lnTo>
                        <a:pt x="1" y="6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40680" y="2679840"/>
                  <a:ext cx="365760" cy="87480"/>
                </a:xfrm>
                <a:custGeom>
                  <a:avLst/>
                  <a:gdLst/>
                  <a:ahLst/>
                  <a:rect l="l" t="t" r="r" b="b"/>
                  <a:pathLst>
                    <a:path w="240" h="49">
                      <a:moveTo>
                        <a:pt x="32" y="0"/>
                      </a:moveTo>
                      <a:lnTo>
                        <a:pt x="228" y="0"/>
                      </a:lnTo>
                      <a:lnTo>
                        <a:pt x="239" y="48"/>
                      </a:lnTo>
                      <a:lnTo>
                        <a:pt x="0" y="4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617600" y="2679840"/>
                  <a:ext cx="111240" cy="87480"/>
                </a:xfrm>
                <a:custGeom>
                  <a:avLst/>
                  <a:gdLst/>
                  <a:ahLst/>
                  <a:rect l="l" t="t" r="r" b="b"/>
                  <a:pathLst>
                    <a:path w="73" h="49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8"/>
                      </a:lnTo>
                      <a:lnTo>
                        <a:pt x="13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7336800" y="2322360"/>
                <a:ext cx="294120" cy="32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78200" y="2367000"/>
                <a:ext cx="212040" cy="219600"/>
              </a:xfrm>
              <a:prstGeom prst="rect">
                <a:avLst/>
              </a:prstGeom>
              <a:solidFill>
                <a:srgbClr val="105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67200" y="2610360"/>
                <a:ext cx="259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755880" y="2327400"/>
              <a:ext cx="1572840" cy="472680"/>
              <a:chOff x="3755880" y="2327400"/>
              <a:chExt cx="1572840" cy="4726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70680" y="2327400"/>
                <a:ext cx="520560" cy="47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6720" y="2327400"/>
                <a:ext cx="522000" cy="47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55880" y="2327400"/>
                <a:ext cx="522360" cy="47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"/>
            <p:cNvGrpSpPr/>
            <p:nvPr/>
          </p:nvGrpSpPr>
          <p:grpSpPr>
            <a:xfrm>
              <a:off x="5319720" y="2327400"/>
              <a:ext cx="1571400" cy="472680"/>
              <a:chOff x="5319720" y="2327400"/>
              <a:chExt cx="1571400" cy="4726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34520" y="2327400"/>
                <a:ext cx="519120" cy="47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70560" y="2327400"/>
                <a:ext cx="520560" cy="47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9720" y="2327400"/>
                <a:ext cx="520560" cy="4726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09" name=""/>
            <p:cNvGraphicFramePr/>
            <p:nvPr/>
          </p:nvGraphicFramePr>
          <p:xfrm>
            <a:off x="971640" y="3666960"/>
            <a:ext cx="1155600" cy="115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71640" y="3666960"/>
                      <a:ext cx="115560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1" name="" descr=""/>
            <p:cNvPicPr/>
            <p:nvPr/>
          </p:nvPicPr>
          <p:blipFill>
            <a:blip r:embed="rId9"/>
            <a:stretch/>
          </p:blipFill>
          <p:spPr>
            <a:xfrm>
              <a:off x="4365720" y="3666960"/>
              <a:ext cx="627120" cy="1054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2" name=""/>
            <p:cNvGraphicFramePr/>
            <p:nvPr/>
          </p:nvGraphicFramePr>
          <p:xfrm>
            <a:off x="2544840" y="3657600"/>
            <a:ext cx="1006200" cy="1212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44840" y="3657600"/>
                      <a:ext cx="100620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7823160" y="4629240"/>
              <a:ext cx="144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5480" y="4727520"/>
              <a:ext cx="180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1800" y="1828800"/>
              <a:ext cx="996840" cy="420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Partn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154160" y="2301840"/>
            <a:ext cx="609480" cy="4986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154160" y="2301840"/>
                      <a:ext cx="60948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5783400" y="3668760"/>
            <a:ext cx="1155600" cy="1154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83400" y="3668760"/>
                      <a:ext cx="1155600" cy="11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1" name="" descr=""/>
            <p:cNvPicPr/>
            <p:nvPr/>
          </p:nvPicPr>
          <p:blipFill>
            <a:blip r:embed="rId16"/>
            <a:stretch/>
          </p:blipFill>
          <p:spPr>
            <a:xfrm>
              <a:off x="7485120" y="3657600"/>
              <a:ext cx="62712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236600" y="2755800"/>
              <a:ext cx="1800" cy="914400"/>
            </a:xfrm>
            <a:prstGeom prst="line">
              <a:avLst/>
            </a:prstGeom>
            <a:ln w="12600">
              <a:solidFill>
                <a:srgbClr val="d60b0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95040" y="2809800"/>
              <a:ext cx="730440" cy="893880"/>
            </a:xfrm>
            <a:prstGeom prst="line">
              <a:avLst/>
            </a:prstGeom>
            <a:ln w="12600">
              <a:solidFill>
                <a:srgbClr val="d60b0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69920" y="4656240"/>
              <a:ext cx="180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7"/>
            <a:stretch/>
          </p:blipFill>
          <p:spPr>
            <a:xfrm>
              <a:off x="7872480" y="2262240"/>
              <a:ext cx="35064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flipH="1">
              <a:off x="3319200" y="5191200"/>
              <a:ext cx="1073160" cy="1440"/>
            </a:xfrm>
            <a:prstGeom prst="line">
              <a:avLst/>
            </a:prstGeom>
            <a:ln w="12600">
              <a:solidFill>
                <a:srgbClr val="d60b0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6880" y="3429000"/>
              <a:ext cx="1234800" cy="279360"/>
            </a:xfrm>
            <a:custGeom>
              <a:avLst/>
              <a:gdLst/>
              <a:ahLst/>
              <a:rect l="l" t="t" r="r" b="b"/>
              <a:pathLst>
                <a:path w="809" h="156">
                  <a:moveTo>
                    <a:pt x="0" y="146"/>
                  </a:moveTo>
                  <a:lnTo>
                    <a:pt x="0" y="0"/>
                  </a:lnTo>
                  <a:lnTo>
                    <a:pt x="808" y="0"/>
                  </a:lnTo>
                  <a:lnTo>
                    <a:pt x="808" y="155"/>
                  </a:lnTo>
                </a:path>
              </a:pathLst>
            </a:custGeom>
            <a:noFill/>
            <a:ln cap="rnd" w="12600">
              <a:solidFill>
                <a:srgbClr val="d60b06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1840" y="2790720"/>
              <a:ext cx="1440" cy="884520"/>
            </a:xfrm>
            <a:prstGeom prst="line">
              <a:avLst/>
            </a:prstGeom>
            <a:ln w="12600">
              <a:solidFill>
                <a:srgbClr val="d60b0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8640" y="2782800"/>
              <a:ext cx="320400" cy="954000"/>
            </a:xfrm>
            <a:prstGeom prst="line">
              <a:avLst/>
            </a:prstGeom>
            <a:ln w="12600">
              <a:solidFill>
                <a:srgbClr val="d60b0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384200" y="2687760"/>
              <a:ext cx="6708600" cy="2774880"/>
              <a:chOff x="1384200" y="2687760"/>
              <a:chExt cx="6708600" cy="2774880"/>
            </a:xfrm>
          </p:grpSpPr>
          <p:sp>
            <p:nvSpPr>
              <p:cNvPr id="131" name=""/>
              <p:cNvSpPr/>
              <p:nvPr/>
            </p:nvSpPr>
            <p:spPr>
              <a:xfrm flipH="1" flipV="1">
                <a:off x="2070360" y="4124520"/>
                <a:ext cx="2396520" cy="100944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2089800" y="4136760"/>
                <a:ext cx="686880" cy="89532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73560" y="3333600"/>
                <a:ext cx="3004200" cy="339840"/>
              </a:xfrm>
              <a:custGeom>
                <a:avLst/>
                <a:gdLst/>
                <a:ahLst/>
                <a:rect l="l" t="t" r="r" b="b"/>
                <a:pathLst>
                  <a:path w="1967" h="190">
                    <a:moveTo>
                      <a:pt x="0" y="178"/>
                    </a:moveTo>
                    <a:lnTo>
                      <a:pt x="0" y="0"/>
                    </a:lnTo>
                    <a:lnTo>
                      <a:pt x="1966" y="0"/>
                    </a:lnTo>
                    <a:lnTo>
                      <a:pt x="1966" y="189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3224520" y="2786040"/>
                <a:ext cx="1137600" cy="219384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9840" y="3348000"/>
                <a:ext cx="3002400" cy="339840"/>
              </a:xfrm>
              <a:custGeom>
                <a:avLst/>
                <a:gdLst/>
                <a:ahLst/>
                <a:rect l="l" t="t" r="r" b="b"/>
                <a:pathLst>
                  <a:path w="1966" h="190">
                    <a:moveTo>
                      <a:pt x="0" y="178"/>
                    </a:moveTo>
                    <a:lnTo>
                      <a:pt x="0" y="0"/>
                    </a:lnTo>
                    <a:lnTo>
                      <a:pt x="1965" y="0"/>
                    </a:lnTo>
                    <a:lnTo>
                      <a:pt x="1965" y="189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71480" y="2790720"/>
                <a:ext cx="2612160" cy="89712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84200" y="4707000"/>
                <a:ext cx="72720" cy="738000"/>
              </a:xfrm>
              <a:custGeom>
                <a:avLst/>
                <a:gdLst/>
                <a:ahLst/>
                <a:rect l="l" t="t" r="r" b="b"/>
                <a:pathLst>
                  <a:path w="48" h="413">
                    <a:moveTo>
                      <a:pt x="0" y="0"/>
                    </a:moveTo>
                    <a:lnTo>
                      <a:pt x="0" y="302"/>
                    </a:lnTo>
                    <a:lnTo>
                      <a:pt x="47" y="178"/>
                    </a:lnTo>
                    <a:lnTo>
                      <a:pt x="47" y="412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30360" y="4781520"/>
                <a:ext cx="73080" cy="681120"/>
              </a:xfrm>
              <a:custGeom>
                <a:avLst/>
                <a:gdLst/>
                <a:ahLst/>
                <a:rect l="l" t="t" r="r" b="b"/>
                <a:pathLst>
                  <a:path w="48" h="381">
                    <a:moveTo>
                      <a:pt x="0" y="0"/>
                    </a:moveTo>
                    <a:lnTo>
                      <a:pt x="0" y="279"/>
                    </a:lnTo>
                    <a:lnTo>
                      <a:pt x="47" y="165"/>
                    </a:lnTo>
                    <a:lnTo>
                      <a:pt x="47" y="380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17320" y="2749680"/>
                <a:ext cx="1227240" cy="96516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46120" y="2774880"/>
                <a:ext cx="2986200" cy="9352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73880" y="2832120"/>
                <a:ext cx="1440" cy="8668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44600" y="2784600"/>
                <a:ext cx="1236600" cy="8920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63400" y="2755800"/>
                <a:ext cx="1311480" cy="226404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855800" y="2779560"/>
                <a:ext cx="2206800" cy="95112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372480" y="2801880"/>
                <a:ext cx="624600" cy="8938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61360" y="3252960"/>
                <a:ext cx="4893840" cy="438120"/>
              </a:xfrm>
              <a:custGeom>
                <a:avLst/>
                <a:gdLst/>
                <a:ahLst/>
                <a:rect l="l" t="t" r="r" b="b"/>
                <a:pathLst>
                  <a:path w="3205" h="245">
                    <a:moveTo>
                      <a:pt x="0" y="229"/>
                    </a:moveTo>
                    <a:lnTo>
                      <a:pt x="0" y="0"/>
                    </a:lnTo>
                    <a:lnTo>
                      <a:pt x="3204" y="0"/>
                    </a:lnTo>
                    <a:lnTo>
                      <a:pt x="3204" y="244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66640" y="3138480"/>
                <a:ext cx="6476400" cy="557280"/>
              </a:xfrm>
              <a:custGeom>
                <a:avLst/>
                <a:gdLst/>
                <a:ahLst/>
                <a:rect l="l" t="t" r="r" b="b"/>
                <a:pathLst>
                  <a:path w="4240" h="311">
                    <a:moveTo>
                      <a:pt x="0" y="291"/>
                    </a:moveTo>
                    <a:lnTo>
                      <a:pt x="0" y="0"/>
                    </a:lnTo>
                    <a:lnTo>
                      <a:pt x="4239" y="0"/>
                    </a:lnTo>
                    <a:lnTo>
                      <a:pt x="4239" y="310"/>
                    </a:lnTo>
                  </a:path>
                </a:pathLst>
              </a:custGeom>
              <a:noFill/>
              <a:ln cap="rnd" w="12600">
                <a:solidFill>
                  <a:srgbClr val="d60b06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2354040" y="5030640"/>
                <a:ext cx="333000" cy="19224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297760" y="5146560"/>
                <a:ext cx="855720" cy="1116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309120" y="5267520"/>
                <a:ext cx="2831760" cy="108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668280" y="4524480"/>
                <a:ext cx="948240" cy="6588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95440" y="2687760"/>
                <a:ext cx="0" cy="23670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78560" y="2789280"/>
                <a:ext cx="696240" cy="22636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4926240" y="2803680"/>
                <a:ext cx="618120" cy="96336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85080" y="2803680"/>
                <a:ext cx="167040" cy="88416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74760" y="2779560"/>
                <a:ext cx="1010160" cy="106056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343560" y="2808360"/>
                <a:ext cx="331200" cy="85392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374920" y="4514400"/>
                <a:ext cx="5153760" cy="4510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37360" y="2860560"/>
                <a:ext cx="55440" cy="86688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413400" y="2762280"/>
                <a:ext cx="1064160" cy="9144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6886800" y="2808360"/>
                <a:ext cx="1098000" cy="94284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4760640" y="2808360"/>
                <a:ext cx="2694600" cy="8064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931280" y="2801880"/>
                <a:ext cx="2485800" cy="955800"/>
              </a:xfrm>
              <a:prstGeom prst="line">
                <a:avLst/>
              </a:prstGeom>
              <a:ln w="12600">
                <a:solidFill>
                  <a:srgbClr val="d60b06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478640" y="4978440"/>
              <a:ext cx="720720" cy="495360"/>
              <a:chOff x="7478640" y="4978440"/>
              <a:chExt cx="720720" cy="495360"/>
            </a:xfrm>
          </p:grpSpPr>
          <p:sp>
            <p:nvSpPr>
              <p:cNvPr id="165" name=""/>
              <p:cNvSpPr/>
              <p:nvPr/>
            </p:nvSpPr>
            <p:spPr>
              <a:xfrm>
                <a:off x="7478640" y="506160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78640" y="497844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78640" y="530856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005520" y="5029200"/>
              <a:ext cx="720720" cy="495360"/>
              <a:chOff x="6005520" y="5029200"/>
              <a:chExt cx="720720" cy="495360"/>
            </a:xfrm>
          </p:grpSpPr>
          <p:sp>
            <p:nvSpPr>
              <p:cNvPr id="169" name=""/>
              <p:cNvSpPr/>
              <p:nvPr/>
            </p:nvSpPr>
            <p:spPr>
              <a:xfrm>
                <a:off x="6005520" y="511236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05520" y="502920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05520" y="535932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662120" y="4876920"/>
              <a:ext cx="720720" cy="495360"/>
              <a:chOff x="1662120" y="4876920"/>
              <a:chExt cx="720720" cy="495360"/>
            </a:xfrm>
          </p:grpSpPr>
          <p:sp>
            <p:nvSpPr>
              <p:cNvPr id="173" name=""/>
              <p:cNvSpPr/>
              <p:nvPr/>
            </p:nvSpPr>
            <p:spPr>
              <a:xfrm>
                <a:off x="1662120" y="4960080"/>
                <a:ext cx="720720" cy="328320"/>
              </a:xfrm>
              <a:prstGeom prst="rect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62120" y="487692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62120" y="5207040"/>
                <a:ext cx="720720" cy="165240"/>
              </a:xfrm>
              <a:prstGeom prst="ellipse">
                <a:avLst/>
              </a:prstGeom>
              <a:gradFill rotWithShape="0">
                <a:gsLst>
                  <a:gs pos="0">
                    <a:srgbClr val="49381f"/>
                  </a:gs>
                  <a:gs pos="50000">
                    <a:srgbClr val="f6bf69"/>
                  </a:gs>
                  <a:gs pos="100000">
                    <a:srgbClr val="49381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617200" y="569736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18360" y="576252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i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4320" y="5686560"/>
              <a:ext cx="72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2960" y="576252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5840" y="6051600"/>
              <a:ext cx="655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ording to Wall Street Journal (plus some analysts), an average large enterprise has about 50+ applications that they need to integrat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Th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0160" y="5118120"/>
            <a:ext cx="717480" cy="495360"/>
            <a:chOff x="4610160" y="5118120"/>
            <a:chExt cx="717480" cy="495360"/>
          </a:xfrm>
        </p:grpSpPr>
        <p:sp>
          <p:nvSpPr>
            <p:cNvPr id="183" name=""/>
            <p:cNvSpPr/>
            <p:nvPr/>
          </p:nvSpPr>
          <p:spPr>
            <a:xfrm>
              <a:off x="4610160" y="5201280"/>
              <a:ext cx="717480" cy="32832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0160" y="511812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0160" y="544824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956040" y="1866960"/>
            <a:ext cx="2610000" cy="420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terna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27400" y="2371680"/>
            <a:ext cx="1115640" cy="452880"/>
            <a:chOff x="2327400" y="2371680"/>
            <a:chExt cx="1115640" cy="452880"/>
          </a:xfrm>
        </p:grpSpPr>
        <p:grpSp>
          <p:nvGrpSpPr>
            <p:cNvPr id="188" name=""/>
            <p:cNvGrpSpPr/>
            <p:nvPr/>
          </p:nvGrpSpPr>
          <p:grpSpPr>
            <a:xfrm>
              <a:off x="2327400" y="2371680"/>
              <a:ext cx="548640" cy="452880"/>
              <a:chOff x="2327400" y="2371680"/>
              <a:chExt cx="548640" cy="45288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2327400" y="2691360"/>
                <a:ext cx="548640" cy="133200"/>
                <a:chOff x="2327400" y="2691360"/>
                <a:chExt cx="548640" cy="133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327400" y="2691360"/>
                  <a:ext cx="548640" cy="133200"/>
                </a:xfrm>
                <a:custGeom>
                  <a:avLst/>
                  <a:gdLst/>
                  <a:ahLst/>
                  <a:rect l="l" t="t" r="r" b="b"/>
                  <a:pathLst>
                    <a:path w="361" h="75">
                      <a:moveTo>
                        <a:pt x="45" y="0"/>
                      </a:moveTo>
                      <a:lnTo>
                        <a:pt x="317" y="0"/>
                      </a:lnTo>
                      <a:lnTo>
                        <a:pt x="359" y="67"/>
                      </a:lnTo>
                      <a:lnTo>
                        <a:pt x="360" y="70"/>
                      </a:lnTo>
                      <a:lnTo>
                        <a:pt x="358" y="73"/>
                      </a:lnTo>
                      <a:lnTo>
                        <a:pt x="356" y="74"/>
                      </a:lnTo>
                      <a:lnTo>
                        <a:pt x="5" y="74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1" y="6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57640" y="2719440"/>
                  <a:ext cx="364680" cy="8568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32" y="0"/>
                      </a:moveTo>
                      <a:lnTo>
                        <a:pt x="228" y="0"/>
                      </a:lnTo>
                      <a:lnTo>
                        <a:pt x="239" y="47"/>
                      </a:lnTo>
                      <a:lnTo>
                        <a:pt x="0" y="47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33120" y="2719440"/>
                  <a:ext cx="110880" cy="85680"/>
                </a:xfrm>
                <a:custGeom>
                  <a:avLst/>
                  <a:gdLst/>
                  <a:ahLst/>
                  <a:rect l="l" t="t" r="r" b="b"/>
                  <a:pathLst>
                    <a:path w="73" h="48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7"/>
                      </a:lnTo>
                      <a:lnTo>
                        <a:pt x="13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453400" y="2371680"/>
                <a:ext cx="293400" cy="312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4440" y="2414520"/>
                <a:ext cx="211320" cy="216000"/>
              </a:xfrm>
              <a:prstGeom prst="rect">
                <a:avLst/>
              </a:prstGeom>
              <a:solidFill>
                <a:srgbClr val="105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82720" y="2652120"/>
                <a:ext cx="25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894040" y="2371680"/>
              <a:ext cx="549000" cy="452880"/>
              <a:chOff x="2894040" y="2371680"/>
              <a:chExt cx="549000" cy="452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894040" y="2691360"/>
                <a:ext cx="549000" cy="133200"/>
                <a:chOff x="2894040" y="2691360"/>
                <a:chExt cx="549000" cy="133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94040" y="2691360"/>
                  <a:ext cx="549000" cy="133200"/>
                </a:xfrm>
                <a:custGeom>
                  <a:avLst/>
                  <a:gdLst/>
                  <a:ahLst/>
                  <a:rect l="l" t="t" r="r" b="b"/>
                  <a:pathLst>
                    <a:path w="361" h="75">
                      <a:moveTo>
                        <a:pt x="45" y="0"/>
                      </a:moveTo>
                      <a:lnTo>
                        <a:pt x="317" y="0"/>
                      </a:lnTo>
                      <a:lnTo>
                        <a:pt x="359" y="67"/>
                      </a:lnTo>
                      <a:lnTo>
                        <a:pt x="360" y="70"/>
                      </a:lnTo>
                      <a:lnTo>
                        <a:pt x="358" y="73"/>
                      </a:lnTo>
                      <a:lnTo>
                        <a:pt x="356" y="74"/>
                      </a:lnTo>
                      <a:lnTo>
                        <a:pt x="5" y="74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1" y="6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924640" y="2719440"/>
                  <a:ext cx="364680" cy="8568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32" y="0"/>
                      </a:moveTo>
                      <a:lnTo>
                        <a:pt x="228" y="0"/>
                      </a:lnTo>
                      <a:lnTo>
                        <a:pt x="239" y="47"/>
                      </a:lnTo>
                      <a:lnTo>
                        <a:pt x="0" y="47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300120" y="2719440"/>
                  <a:ext cx="110880" cy="85680"/>
                </a:xfrm>
                <a:custGeom>
                  <a:avLst/>
                  <a:gdLst/>
                  <a:ahLst/>
                  <a:rect l="l" t="t" r="r" b="b"/>
                  <a:pathLst>
                    <a:path w="73" h="48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7"/>
                      </a:lnTo>
                      <a:lnTo>
                        <a:pt x="13" y="4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020040" y="2371680"/>
                <a:ext cx="293400" cy="312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61080" y="2414520"/>
                <a:ext cx="211320" cy="216000"/>
              </a:xfrm>
              <a:prstGeom prst="rect">
                <a:avLst/>
              </a:prstGeom>
              <a:solidFill>
                <a:srgbClr val="105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49720" y="2652120"/>
                <a:ext cx="25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2228760" y="1866960"/>
            <a:ext cx="1227240" cy="420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29440" y="1866960"/>
            <a:ext cx="1090800" cy="420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3240" y="476244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84760" y="469908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16120" y="5029200"/>
            <a:ext cx="717480" cy="495360"/>
            <a:chOff x="2616120" y="5029200"/>
            <a:chExt cx="717480" cy="495360"/>
          </a:xfrm>
        </p:grpSpPr>
        <p:sp>
          <p:nvSpPr>
            <p:cNvPr id="209" name=""/>
            <p:cNvSpPr/>
            <p:nvPr/>
          </p:nvSpPr>
          <p:spPr>
            <a:xfrm>
              <a:off x="2616120" y="5112360"/>
              <a:ext cx="717480" cy="32832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16120" y="502920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6120" y="535932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267080" y="4978440"/>
            <a:ext cx="717840" cy="495360"/>
            <a:chOff x="4267080" y="4978440"/>
            <a:chExt cx="717840" cy="495360"/>
          </a:xfrm>
        </p:grpSpPr>
        <p:sp>
          <p:nvSpPr>
            <p:cNvPr id="213" name=""/>
            <p:cNvSpPr/>
            <p:nvPr/>
          </p:nvSpPr>
          <p:spPr>
            <a:xfrm>
              <a:off x="4267080" y="5061600"/>
              <a:ext cx="717840" cy="32832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67080" y="4978440"/>
              <a:ext cx="71784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5308560"/>
              <a:ext cx="71784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601640" y="3165480"/>
            <a:ext cx="270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199280" y="2360520"/>
            <a:ext cx="549360" cy="464400"/>
            <a:chOff x="7199280" y="2360520"/>
            <a:chExt cx="549360" cy="464400"/>
          </a:xfrm>
        </p:grpSpPr>
        <p:grpSp>
          <p:nvGrpSpPr>
            <p:cNvPr id="218" name=""/>
            <p:cNvGrpSpPr/>
            <p:nvPr/>
          </p:nvGrpSpPr>
          <p:grpSpPr>
            <a:xfrm>
              <a:off x="7199280" y="2689560"/>
              <a:ext cx="549360" cy="135360"/>
              <a:chOff x="7199280" y="2689560"/>
              <a:chExt cx="549360" cy="135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199280" y="2689560"/>
                <a:ext cx="549360" cy="135360"/>
              </a:xfrm>
              <a:custGeom>
                <a:avLst/>
                <a:gdLst/>
                <a:ahLst/>
                <a:rect l="l" t="t" r="r" b="b"/>
                <a:pathLst>
                  <a:path w="361" h="76">
                    <a:moveTo>
                      <a:pt x="45" y="0"/>
                    </a:moveTo>
                    <a:lnTo>
                      <a:pt x="317" y="0"/>
                    </a:lnTo>
                    <a:lnTo>
                      <a:pt x="359" y="68"/>
                    </a:lnTo>
                    <a:lnTo>
                      <a:pt x="360" y="71"/>
                    </a:lnTo>
                    <a:lnTo>
                      <a:pt x="358" y="74"/>
                    </a:lnTo>
                    <a:lnTo>
                      <a:pt x="356" y="75"/>
                    </a:lnTo>
                    <a:lnTo>
                      <a:pt x="5" y="75"/>
                    </a:lnTo>
                    <a:lnTo>
                      <a:pt x="2" y="74"/>
                    </a:lnTo>
                    <a:lnTo>
                      <a:pt x="0" y="70"/>
                    </a:lnTo>
                    <a:lnTo>
                      <a:pt x="1" y="66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29520" y="2718000"/>
                <a:ext cx="365040" cy="87480"/>
              </a:xfrm>
              <a:custGeom>
                <a:avLst/>
                <a:gdLst/>
                <a:ahLst/>
                <a:rect l="l" t="t" r="r" b="b"/>
                <a:pathLst>
                  <a:path w="240" h="49">
                    <a:moveTo>
                      <a:pt x="32" y="0"/>
                    </a:moveTo>
                    <a:lnTo>
                      <a:pt x="228" y="0"/>
                    </a:lnTo>
                    <a:lnTo>
                      <a:pt x="239" y="48"/>
                    </a:lnTo>
                    <a:lnTo>
                      <a:pt x="0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5360" y="2718000"/>
                <a:ext cx="110880" cy="87480"/>
              </a:xfrm>
              <a:custGeom>
                <a:avLst/>
                <a:gdLst/>
                <a:ahLst/>
                <a:rect l="l" t="t" r="r" b="b"/>
                <a:pathLst>
                  <a:path w="73" h="49">
                    <a:moveTo>
                      <a:pt x="0" y="0"/>
                    </a:moveTo>
                    <a:lnTo>
                      <a:pt x="43" y="0"/>
                    </a:lnTo>
                    <a:lnTo>
                      <a:pt x="72" y="48"/>
                    </a:lnTo>
                    <a:lnTo>
                      <a:pt x="13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325280" y="2360520"/>
              <a:ext cx="29340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66320" y="2405160"/>
              <a:ext cx="211320" cy="219600"/>
            </a:xfrm>
            <a:prstGeom prst="rect">
              <a:avLst/>
            </a:prstGeom>
            <a:solidFill>
              <a:srgbClr val="105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5320" y="2648520"/>
              <a:ext cx="25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45080" y="2365200"/>
            <a:ext cx="1566360" cy="473040"/>
            <a:chOff x="3745080" y="2365200"/>
            <a:chExt cx="1566360" cy="4730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257720" y="2365200"/>
              <a:ext cx="5184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4791600" y="2365200"/>
              <a:ext cx="51984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3745080" y="2365200"/>
              <a:ext cx="52020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5308560" y="2365200"/>
            <a:ext cx="1564920" cy="473040"/>
            <a:chOff x="5308560" y="2365200"/>
            <a:chExt cx="1564920" cy="473040"/>
          </a:xfrm>
        </p:grpSpPr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5821200" y="2365200"/>
              <a:ext cx="51696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6355080" y="2365200"/>
              <a:ext cx="5184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5308560" y="2365200"/>
              <a:ext cx="518400" cy="473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3" name=""/>
          <p:cNvGraphicFramePr/>
          <p:nvPr/>
        </p:nvGraphicFramePr>
        <p:xfrm>
          <a:off x="960480" y="3705120"/>
          <a:ext cx="1150920" cy="115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0480" y="3705120"/>
                    <a:ext cx="11509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4354560" y="3705120"/>
            <a:ext cx="62388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2533680" y="3695760"/>
          <a:ext cx="1003320" cy="121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33680" y="3695760"/>
                    <a:ext cx="10033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812000" y="4667400"/>
            <a:ext cx="0" cy="42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4320" y="4765680"/>
            <a:ext cx="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0640" y="1866960"/>
            <a:ext cx="993600" cy="420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43000" y="2340000"/>
          <a:ext cx="608040" cy="49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2340000"/>
                    <a:ext cx="608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772240" y="3706920"/>
          <a:ext cx="1150920" cy="1154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72240" y="3706920"/>
                    <a:ext cx="1150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7473960" y="3695760"/>
            <a:ext cx="623880" cy="1063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959120" y="46944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7"/>
          <a:stretch/>
        </p:blipFill>
        <p:spPr>
          <a:xfrm>
            <a:off x="7861320" y="2300400"/>
            <a:ext cx="349200" cy="6188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7467480" y="5016600"/>
            <a:ext cx="717840" cy="495360"/>
            <a:chOff x="7467480" y="5016600"/>
            <a:chExt cx="717840" cy="495360"/>
          </a:xfrm>
        </p:grpSpPr>
        <p:sp>
          <p:nvSpPr>
            <p:cNvPr id="249" name=""/>
            <p:cNvSpPr/>
            <p:nvPr/>
          </p:nvSpPr>
          <p:spPr>
            <a:xfrm>
              <a:off x="7467480" y="5099760"/>
              <a:ext cx="717840" cy="32832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480" y="5016600"/>
              <a:ext cx="71784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5346720"/>
              <a:ext cx="71784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994360" y="5067360"/>
            <a:ext cx="717480" cy="495360"/>
            <a:chOff x="5994360" y="5067360"/>
            <a:chExt cx="717480" cy="495360"/>
          </a:xfrm>
        </p:grpSpPr>
        <p:sp>
          <p:nvSpPr>
            <p:cNvPr id="253" name=""/>
            <p:cNvSpPr/>
            <p:nvPr/>
          </p:nvSpPr>
          <p:spPr>
            <a:xfrm>
              <a:off x="5994360" y="5150520"/>
              <a:ext cx="717480" cy="32832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94360" y="506736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94360" y="5397480"/>
              <a:ext cx="717480" cy="16524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650960" y="4915080"/>
            <a:ext cx="717480" cy="494640"/>
            <a:chOff x="1650960" y="4915080"/>
            <a:chExt cx="717480" cy="494640"/>
          </a:xfrm>
        </p:grpSpPr>
        <p:sp>
          <p:nvSpPr>
            <p:cNvPr id="257" name=""/>
            <p:cNvSpPr/>
            <p:nvPr/>
          </p:nvSpPr>
          <p:spPr>
            <a:xfrm>
              <a:off x="1650960" y="4998240"/>
              <a:ext cx="717480" cy="327960"/>
            </a:xfrm>
            <a:prstGeom prst="rect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50960" y="4915080"/>
              <a:ext cx="717480" cy="16488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50960" y="5244840"/>
              <a:ext cx="717480" cy="164880"/>
            </a:xfrm>
            <a:prstGeom prst="ellipse">
              <a:avLst/>
            </a:prstGeom>
            <a:gradFill rotWithShape="0">
              <a:gsLst>
                <a:gs pos="0">
                  <a:srgbClr val="49381f"/>
                </a:gs>
                <a:gs pos="50000">
                  <a:srgbClr val="f6bf69"/>
                </a:gs>
                <a:gs pos="100000">
                  <a:srgbClr val="4938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62120" y="3060720"/>
            <a:ext cx="7378560" cy="48276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42280" y="2743200"/>
            <a:ext cx="79200" cy="274680"/>
          </a:xfrm>
          <a:prstGeom prst="upDownArrow">
            <a:avLst>
              <a:gd name="adj1" fmla="val 50000"/>
              <a:gd name="adj2" fmla="val 6904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21640" y="3530520"/>
            <a:ext cx="79200" cy="274680"/>
          </a:xfrm>
          <a:prstGeom prst="upDownArrow">
            <a:avLst>
              <a:gd name="adj1" fmla="val 50000"/>
              <a:gd name="adj2" fmla="val 6904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2730600"/>
            <a:ext cx="79200" cy="274680"/>
          </a:xfrm>
          <a:prstGeom prst="upDownArrow">
            <a:avLst>
              <a:gd name="adj1" fmla="val 50000"/>
              <a:gd name="adj2" fmla="val 6904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70280" y="2717640"/>
            <a:ext cx="79200" cy="274680"/>
          </a:xfrm>
          <a:prstGeom prst="upDownArrow">
            <a:avLst>
              <a:gd name="adj1" fmla="val 50000"/>
              <a:gd name="adj2" fmla="val 6904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70400" y="2743200"/>
            <a:ext cx="79560" cy="274680"/>
          </a:xfrm>
          <a:prstGeom prst="upDownArrow">
            <a:avLst>
              <a:gd name="adj1" fmla="val 50000"/>
              <a:gd name="adj2" fmla="val 687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4960" y="3543480"/>
            <a:ext cx="79560" cy="274320"/>
          </a:xfrm>
          <a:prstGeom prst="upDownArrow">
            <a:avLst>
              <a:gd name="adj1" fmla="val 50000"/>
              <a:gd name="adj2" fmla="val 6864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59400" y="3543480"/>
            <a:ext cx="79200" cy="274320"/>
          </a:xfrm>
          <a:prstGeom prst="upDownArrow">
            <a:avLst>
              <a:gd name="adj1" fmla="val 50000"/>
              <a:gd name="adj2" fmla="val 6895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1120" y="3517920"/>
            <a:ext cx="79200" cy="274680"/>
          </a:xfrm>
          <a:prstGeom prst="upDownArrow">
            <a:avLst>
              <a:gd name="adj1" fmla="val 50000"/>
              <a:gd name="adj2" fmla="val 6904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3535200"/>
            <a:ext cx="79560" cy="274680"/>
          </a:xfrm>
          <a:prstGeom prst="upDownArrow">
            <a:avLst>
              <a:gd name="adj1" fmla="val 50000"/>
              <a:gd name="adj2" fmla="val 687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26640" y="563868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0040" y="557388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61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7160" y="5562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85800" y="56386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57800" y="3029040"/>
            <a:ext cx="52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te Integration Platform: MOM, EAI, B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14560" y="3657600"/>
            <a:ext cx="6995520" cy="304920"/>
            <a:chOff x="1114560" y="3657600"/>
            <a:chExt cx="6995520" cy="304920"/>
          </a:xfrm>
        </p:grpSpPr>
        <p:sp>
          <p:nvSpPr>
            <p:cNvPr id="277" name=""/>
            <p:cNvSpPr/>
            <p:nvPr/>
          </p:nvSpPr>
          <p:spPr>
            <a:xfrm>
              <a:off x="2562120" y="3657600"/>
              <a:ext cx="685440" cy="30492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8280" y="3657600"/>
              <a:ext cx="685440" cy="30492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4640" y="3657600"/>
              <a:ext cx="685440" cy="30492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4560" y="3657600"/>
              <a:ext cx="685440" cy="30492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28960" y="3124080"/>
            <a:ext cx="1600200" cy="381240"/>
          </a:xfrm>
          <a:prstGeom prst="rect">
            <a:avLst/>
          </a:prstGeom>
          <a:gradFill rotWithShape="0">
            <a:gsLst>
              <a:gs pos="0">
                <a:srgbClr val="a4a000"/>
              </a:gs>
              <a:gs pos="50000">
                <a:srgbClr val="ffff99"/>
              </a:gs>
              <a:gs pos="100000">
                <a:srgbClr val="a4a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34280" y="3124080"/>
            <a:ext cx="1501560" cy="381240"/>
          </a:xfrm>
          <a:prstGeom prst="rect">
            <a:avLst/>
          </a:prstGeom>
          <a:gradFill rotWithShape="0">
            <a:gsLst>
              <a:gs pos="0">
                <a:srgbClr val="a4a000"/>
              </a:gs>
              <a:gs pos="50000">
                <a:srgbClr val="ffff99"/>
              </a:gs>
              <a:gs pos="100000">
                <a:srgbClr val="a4a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ssag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35440" y="3124080"/>
            <a:ext cx="1492200" cy="381240"/>
          </a:xfrm>
          <a:prstGeom prst="rect">
            <a:avLst/>
          </a:prstGeom>
          <a:gradFill rotWithShape="0">
            <a:gsLst>
              <a:gs pos="0">
                <a:srgbClr val="a4a000"/>
              </a:gs>
              <a:gs pos="50000">
                <a:srgbClr val="ffff99"/>
              </a:gs>
              <a:gs pos="100000">
                <a:srgbClr val="a4a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lligent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008000" y="3009960"/>
            <a:ext cx="2210760" cy="3278160"/>
            <a:chOff x="1008000" y="3009960"/>
            <a:chExt cx="2210760" cy="3278160"/>
          </a:xfrm>
        </p:grpSpPr>
        <p:sp>
          <p:nvSpPr>
            <p:cNvPr id="285" name=""/>
            <p:cNvSpPr/>
            <p:nvPr/>
          </p:nvSpPr>
          <p:spPr>
            <a:xfrm>
              <a:off x="1461960" y="3009960"/>
              <a:ext cx="1600200" cy="380880"/>
            </a:xfrm>
            <a:prstGeom prst="rect">
              <a:avLst/>
            </a:prstGeom>
            <a:gradFill rotWithShape="0">
              <a:gsLst>
                <a:gs pos="0">
                  <a:srgbClr val="a4a000"/>
                </a:gs>
                <a:gs pos="50000">
                  <a:srgbClr val="ffff99"/>
                </a:gs>
                <a:gs pos="100000">
                  <a:srgbClr val="a4a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PM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604960" y="3085920"/>
              <a:ext cx="363600" cy="274680"/>
              <a:chOff x="2604960" y="3085920"/>
              <a:chExt cx="363600" cy="274680"/>
            </a:xfrm>
          </p:grpSpPr>
          <p:sp>
            <p:nvSpPr>
              <p:cNvPr id="287" name=""/>
              <p:cNvSpPr/>
              <p:nvPr/>
            </p:nvSpPr>
            <p:spPr>
              <a:xfrm>
                <a:off x="2604960" y="3085920"/>
                <a:ext cx="363600" cy="274680"/>
              </a:xfrm>
              <a:prstGeom prst="rect">
                <a:avLst/>
              </a:prstGeom>
              <a:solidFill>
                <a:srgbClr val="fcd1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89200" y="3110760"/>
                <a:ext cx="48960" cy="4608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23840" y="3116160"/>
                <a:ext cx="47880" cy="4752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22240" y="3215160"/>
                <a:ext cx="47880" cy="4608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38160" y="3218400"/>
                <a:ext cx="49320" cy="4608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01600" y="3210840"/>
                <a:ext cx="51120" cy="4536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27080" y="3300480"/>
                <a:ext cx="49320" cy="46080"/>
              </a:xfrm>
              <a:prstGeom prst="rect">
                <a:avLst/>
              </a:prstGeom>
              <a:solidFill>
                <a:srgbClr val="b760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41320" y="3126960"/>
                <a:ext cx="39960" cy="8100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154"/>
                    </a:moveTo>
                    <a:lnTo>
                      <a:pt x="0" y="0"/>
                    </a:lnTo>
                    <a:lnTo>
                      <a:pt x="5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90640" y="3238560"/>
                <a:ext cx="30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59040" y="3134160"/>
                <a:ext cx="46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08000" y="3237480"/>
                <a:ext cx="777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57240" y="3269880"/>
                <a:ext cx="61920" cy="5040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0" y="0"/>
                    </a:moveTo>
                    <a:lnTo>
                      <a:pt x="0" y="96"/>
                    </a:lnTo>
                    <a:lnTo>
                      <a:pt x="7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82880" y="326268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0" y="115"/>
                    </a:moveTo>
                    <a:lnTo>
                      <a:pt x="59" y="115"/>
                    </a:lnTo>
                    <a:lnTo>
                      <a:pt x="5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79640" y="3134160"/>
                <a:ext cx="52200" cy="69480"/>
              </a:xfrm>
              <a:custGeom>
                <a:avLst/>
                <a:gdLst/>
                <a:ahLst/>
                <a:rect l="l" t="t" r="r" b="b"/>
                <a:pathLst>
                  <a:path w="66" h="131">
                    <a:moveTo>
                      <a:pt x="0" y="0"/>
                    </a:moveTo>
                    <a:lnTo>
                      <a:pt x="66" y="0"/>
                    </a:lnTo>
                    <a:lnTo>
                      <a:pt x="66" y="13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008000" y="5829120"/>
              <a:ext cx="221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Industry Specific Protoc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*Business Process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28880" y="2895480"/>
            <a:ext cx="7119360" cy="228600"/>
            <a:chOff x="1028880" y="2895480"/>
            <a:chExt cx="7119360" cy="228600"/>
          </a:xfrm>
        </p:grpSpPr>
        <p:sp>
          <p:nvSpPr>
            <p:cNvPr id="303" name=""/>
            <p:cNvSpPr/>
            <p:nvPr/>
          </p:nvSpPr>
          <p:spPr>
            <a:xfrm>
              <a:off x="2442960" y="2895480"/>
              <a:ext cx="91404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a8a4"/>
                </a:gs>
                <a:gs pos="50000">
                  <a:srgbClr val="00ffff"/>
                </a:gs>
                <a:gs pos="100000">
                  <a:srgbClr val="00a8a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toc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34200" y="2895480"/>
              <a:ext cx="91404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a8a4"/>
                </a:gs>
                <a:gs pos="50000">
                  <a:srgbClr val="00ffff"/>
                </a:gs>
                <a:gs pos="100000">
                  <a:srgbClr val="00a8a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toc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8880" y="2895480"/>
              <a:ext cx="91404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a8a4"/>
                </a:gs>
                <a:gs pos="50000">
                  <a:srgbClr val="00ffff"/>
                </a:gs>
                <a:gs pos="100000">
                  <a:srgbClr val="00a8a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tocols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062240" y="3505320"/>
            <a:ext cx="11430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a8a4"/>
              </a:gs>
              <a:gs pos="50000">
                <a:srgbClr val="00ffff"/>
              </a:gs>
              <a:gs pos="100000">
                <a:srgbClr val="00a8a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gration Goal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5931000"/>
            <a:ext cx="8229600" cy="6984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Consolidate User profiles, Manage Policy, Simplify Admin, Increase performa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5029200"/>
            <a:ext cx="8229600" cy="762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gr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Consolidate UI, data and applications. Provide Business proces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743200"/>
            <a:ext cx="205740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0080" y="1752480"/>
            <a:ext cx="78890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 anchorCtr="1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 a consistent interface to the delivery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va, XML and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4191120"/>
            <a:ext cx="8229600" cy="7333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Traditional Services, Mail, Calendar,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rtal Value Pro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ple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5920" indent="-31608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support the best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ple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5920" indent="-31608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grate and deliver via Por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G and GR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5920" indent="-31608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can take your existing apps out to the mo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a Portal make mon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5920" indent="-31608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vide busines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rtal Value Pro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30960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rtal will provide a consistent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soli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30960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rtal aggregation, customises, personal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30960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onts the rest of th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30960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rt card, PKI, VPN, we’ve go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Clr>
                <a:srgbClr val="cc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ngle Sign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309600">
              <a:lnSpc>
                <a:spcPct val="95000"/>
              </a:lnSpc>
              <a:spcAft>
                <a:spcPts val="814"/>
              </a:spcAft>
              <a:buClr>
                <a:srgbClr val="cc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hilosophy, needs to be plan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7:06:21Z</dcterms:created>
  <dc:creator>iPlanet</dc:creator>
  <dc:description/>
  <dc:language>en-US</dc:language>
  <cp:lastModifiedBy>Martin Reime</cp:lastModifiedBy>
  <dcterms:modified xsi:type="dcterms:W3CDTF">2002-06-02T15:46:14Z</dcterms:modified>
  <cp:revision>52</cp:revision>
  <dc:subject/>
  <dc:title>PowerPoint Presentation</dc:title>
</cp:coreProperties>
</file>