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04920" y="6248520"/>
            <a:ext cx="8839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" name=""/>
          <p:cNvGraphicFramePr/>
          <p:nvPr/>
        </p:nvGraphicFramePr>
        <p:xfrm>
          <a:off x="228600" y="0"/>
          <a:ext cx="8915400" cy="696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0"/>
                    <a:ext cx="891540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57200" y="1512720"/>
          <a:ext cx="13792320" cy="107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12720"/>
                    <a:ext cx="13792320" cy="10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3200400" y="365760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Vmware GSX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077320" y="1143000"/>
            <a:ext cx="739116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553080" y="1295280"/>
            <a:ext cx="1609920" cy="1905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7543800" y="2133720"/>
            <a:ext cx="1147680" cy="13604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315200" y="1371600"/>
            <a:ext cx="1287360" cy="1905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095880"/>
            <a:ext cx="9144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328920" y="5181480"/>
            <a:ext cx="0" cy="1689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00400" y="4038480"/>
            <a:ext cx="34592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0000"/>
                </a:solidFill>
                <a:latin typeface="Arial"/>
              </a:rPr>
              <a:t>Bjørn Anders Jørgens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96280" y="4754520"/>
            <a:ext cx="169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b-NO" sz="1200" spc="-1" strike="noStrike">
                <a:solidFill>
                  <a:srgbClr val="000000"/>
                </a:solidFill>
                <a:latin typeface="Arial"/>
              </a:rPr>
              <a:t>24. September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08600" y="4343400"/>
            <a:ext cx="227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rgensen@nettspesialisten.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Times New Roman"/>
              </a:rPr>
              <a:t>Hva er GSX server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Times New Roman"/>
              </a:rPr>
              <a:t>Software for virtuelle maskiner som kan kjøre forskjellige isolerte operativsystem på samme mask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Times New Roman"/>
              </a:rPr>
              <a:t>Maskinpartisjonering for den gjerrige. (eller den kostnadsbevisste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Times New Roman"/>
              </a:rPr>
              <a:t>Basert på samme kjerneteknologi som VMware Works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Times New Roman"/>
              </a:rPr>
              <a:t>Hva GSX server gi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Times New Roman"/>
              </a:rPr>
              <a:t>Støtte for opp til 4 prosessorer (1 per V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Times New Roman"/>
              </a:rPr>
              <a:t>Støtte for 4 GB minne (2 GB per V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Times New Roman"/>
              </a:rPr>
              <a:t>Kjør opptil 24 VM ”headless” per mask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Times New Roman"/>
              </a:rPr>
              <a:t>Web basert management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Times New Roman"/>
              </a:rPr>
              <a:t>Konsoll for fjernstyring av V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Times New Roman"/>
              </a:rPr>
              <a:t>Script basert grensesnitt med Perl AP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Times New Roman"/>
              </a:rPr>
              <a:t>Samme verktøy på GSX og ESX 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Times New Roman"/>
              </a:rPr>
              <a:t>Maskinkra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Times New Roman"/>
              </a:rPr>
              <a:t>Pentium II av et eller annet sla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Times New Roman"/>
              </a:rPr>
              <a:t>256 MB minne, men så mye du har råd til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Times New Roman"/>
              </a:rPr>
              <a:t>Kjører på NT WKS eller W2K PRO men da mister du web management. (bruker II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Times New Roman"/>
              </a:rPr>
              <a:t>Linux: helst kjerne 2.4.9 eller nyere (for å få støtte for 4 GB min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Times New Roman"/>
              </a:rPr>
              <a:t>Mer minne 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Times New Roman"/>
              </a:rPr>
              <a:t>Bruks områ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Times New Roman"/>
              </a:rPr>
              <a:t>Server konsolid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Times New Roman"/>
              </a:rPr>
              <a:t>Automatiserte testfarm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Times New Roman"/>
              </a:rPr>
              <a:t>Opplæring på forskjellige 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Times New Roman"/>
              </a:rPr>
              <a:t>Salgpresentasjo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Times New Roman"/>
              </a:rPr>
              <a:t>Feilsøking utenfor produksjonsmilj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Times New Roman"/>
              </a:rPr>
              <a:t>Support farm med store muligheter for komplekse løsnin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Times New Roman"/>
              </a:rPr>
              <a:t>Cold standby, kun kopiering av noen f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Times New Roman"/>
              </a:rPr>
              <a:t>Dem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457200" y="1600200"/>
            <a:ext cx="8229600" cy="4525920"/>
            <a:chOff x="457200" y="1600200"/>
            <a:chExt cx="8229600" cy="4525920"/>
          </a:xfrm>
        </p:grpSpPr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457200" y="1600200"/>
              <a:ext cx="822960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 txBox="1"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Times New Roman"/>
              </a:rPr>
              <a:t>Mer inf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Times New Roman"/>
              </a:rPr>
              <a:t>Ta en tur innom vår stand her på MA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Times New Roman"/>
              </a:rPr>
              <a:t>Last ned demo fra </a:t>
            </a:r>
            <a:r>
              <a:rPr b="0" lang="nb-NO" sz="3200" spc="-1" strike="noStrike" u="sng">
                <a:solidFill>
                  <a:srgbClr val="3333cc"/>
                </a:solidFill>
                <a:uFillTx/>
                <a:latin typeface="Times New Roman"/>
              </a:rPr>
              <a:t>www.vmware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 u="sng">
                <a:solidFill>
                  <a:srgbClr val="3333cc"/>
                </a:solidFill>
                <a:uFillTx/>
                <a:latin typeface="Times New Roman"/>
              </a:rPr>
              <a:t>News://news.vmware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 u="sng">
                <a:solidFill>
                  <a:srgbClr val="3333cc"/>
                </a:solidFill>
                <a:uFillTx/>
                <a:latin typeface="Times New Roman"/>
              </a:rPr>
              <a:t>Mail til jorgensen@nettspes.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Times New Roman"/>
              </a:rPr>
              <a:t>Spørsmål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Times New Roman"/>
              </a:rPr>
              <a:t>Støtter GSX Windows XP og Windows .Ne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Times New Roman"/>
              </a:rPr>
              <a:t>Hvilke OS er støttet som guest O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0T12:06:24Z</dcterms:created>
  <dc:creator>Tahir Saleem</dc:creator>
  <dc:description/>
  <dc:language>en-US</dc:language>
  <cp:lastModifiedBy>Martin Reime</cp:lastModifiedBy>
  <dcterms:modified xsi:type="dcterms:W3CDTF">2002-06-02T16:43:15Z</dcterms:modified>
  <cp:revision>39</cp:revision>
  <dc:subject/>
  <dc:title>PowerPoint Presentation</dc:title>
</cp:coreProperties>
</file>