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5F64-D18D-44F6-B921-19A6D9611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6D3D-3186-4546-9F82-599C0AA94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E02C-88BD-4892-9ED9-9D9AA4C0E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3F3D-7AE5-4DC9-B50A-2C3289403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B8666-92D7-4D90-A6A9-F8A3B0DC7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37C96-69F9-4BB2-88FD-56A2711AB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3FEF6-7E9F-4C54-80A1-99574DECE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DDAAA-11B1-4798-B126-3BB36BAFD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473D6-CACB-4333-8B44-003B2FA18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E250F-71A4-466D-B509-A0FED890E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FE811-25B8-4E6F-8A44-105BC65B4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FCEF-8B1A-40A3-893B-D988F9BE6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35BF3-888E-4C84-9037-13974B853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122A1-4885-43BB-B411-D57BE1533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E250A-B32B-40A3-B621-03919C54A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449AB-821E-458E-A132-956C3FE7D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16EC9-4121-466A-BE0B-4DB696E99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D889-80E9-40D7-BBAA-339392F60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216D-57EA-460F-B92E-6A536A5E6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CDC2-A9FA-4CCE-B4B2-29BE7C665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813E-6429-4C3C-907A-8A5F2C7D2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0F06-AD1F-4F5A-878F-451EA0AFE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780D-614E-48F5-8A1F-929879630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A4CF-24CA-406C-9FEB-657C3132A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DF208-714B-41EE-B88C-4A1CBB8877A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46BF3-75D6-4896-9978-2DA4A9060E1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image" Target="../media/image2.jpe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8080" y="18284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000" spc="-1" strike="noStrike">
                <a:solidFill>
                  <a:srgbClr val="333399"/>
                </a:solidFill>
                <a:latin typeface="Tahoma"/>
              </a:rPr>
              <a:t>Mobile kommunikasjons løsninger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Tahoma"/>
              </a:rPr>
              <a:t>Presentasjon av Per Ivar li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Tahoma"/>
              </a:rPr>
              <a:t>30 mai 200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867280" y="152280"/>
            <a:ext cx="3257640" cy="8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333399"/>
                </a:solidFill>
                <a:latin typeface="Tahoma"/>
              </a:rPr>
              <a:t>QuickLink AS &amp; Ementor AS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28600" y="2017800"/>
            <a:ext cx="4764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ahoma"/>
              </a:rPr>
              <a:t>Tellerstanden på S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ahoma"/>
              </a:rPr>
              <a:t>Registrerer måleren din og gir deg ca pris på forbruk tilb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ahoma"/>
              </a:rPr>
              <a:t>Enkelt og effekti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ahoma"/>
              </a:rPr>
              <a:t>Interaktivitet med kund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ahoma"/>
              </a:rPr>
              <a:t>”</a:t>
            </a:r>
            <a:r>
              <a:rPr b="0" lang="nb-NO" sz="2400" spc="-1" strike="noStrike">
                <a:solidFill>
                  <a:srgbClr val="000000"/>
                </a:solidFill>
                <a:latin typeface="Tahoma"/>
              </a:rPr>
              <a:t>purring” på </a:t>
            </a:r>
            <a:r>
              <a:rPr b="0" i="1" lang="nb-NO" sz="2400" spc="-1" strike="noStrike">
                <a:solidFill>
                  <a:srgbClr val="000000"/>
                </a:solidFill>
                <a:latin typeface="Tahoma"/>
              </a:rPr>
              <a:t>ikke</a:t>
            </a:r>
            <a:r>
              <a:rPr b="0" lang="nb-NO" sz="2400" spc="-1" strike="noStrike">
                <a:solidFill>
                  <a:srgbClr val="000000"/>
                </a:solidFill>
                <a:latin typeface="Tahoma"/>
              </a:rPr>
              <a:t> innrapportert tellerstan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ahoma"/>
              </a:rPr>
              <a:t>Sparer penger på porto e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5334120" y="2133720"/>
            <a:ext cx="3240000" cy="349092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5867280" y="152280"/>
            <a:ext cx="3257640" cy="8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333399"/>
                </a:solidFill>
                <a:latin typeface="Tahoma"/>
              </a:rPr>
              <a:t>QuickLink AS &amp; B.U.S. 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2017800"/>
            <a:ext cx="4687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ahoma"/>
              </a:rPr>
              <a:t>Bilforretni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ahoma"/>
              </a:rPr>
              <a:t>Motta SMS når bilen er ferdig på verksted – eller </a:t>
            </a:r>
            <a:r>
              <a:rPr b="0" i="1" lang="nb-NO" sz="2400" spc="-1" strike="noStrike">
                <a:solidFill>
                  <a:srgbClr val="000000"/>
                </a:solidFill>
                <a:latin typeface="Tahoma"/>
              </a:rPr>
              <a:t>ikke</a:t>
            </a:r>
            <a:r>
              <a:rPr b="0" lang="nb-NO" sz="2400" spc="-1" strike="noStrike">
                <a:solidFill>
                  <a:srgbClr val="000000"/>
                </a:solidFill>
                <a:latin typeface="Tahoma"/>
              </a:rPr>
              <a:t> ferdig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ahoma"/>
              </a:rPr>
              <a:t>Dersom det må repareres mer enn avta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ahoma"/>
              </a:rPr>
              <a:t>Enkelt og tidsbesparende for mekaniker og kun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ahoma"/>
              </a:rPr>
              <a:t>Innkallelse til EU kontro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ahoma"/>
              </a:rPr>
              <a:t>Dekkskift og serviceinnkal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867280" y="152280"/>
            <a:ext cx="3257640" cy="80028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99360" y="6254640"/>
            <a:ext cx="846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Tahoma"/>
              </a:rPr>
              <a:t>Andre partnere : SI-Data AS, integrasjon i Navision Bil og Crm syst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876920" y="1981080"/>
            <a:ext cx="40384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333399"/>
                </a:solidFill>
                <a:latin typeface="Tahoma"/>
              </a:rPr>
              <a:t>QuickLink AS &amp; Optimal Opti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09480" y="2017800"/>
            <a:ext cx="4383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ahoma"/>
              </a:rPr>
              <a:t>Innkallelse til synsprø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ahoma"/>
              </a:rPr>
              <a:t>SMS påminnelser før avtal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ahoma"/>
              </a:rPr>
              <a:t>Færre ”brutte” avta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ahoma"/>
              </a:rPr>
              <a:t>Kostnadseffekti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ahoma"/>
              </a:rPr>
              <a:t>Større inntekt for den enkelte Optik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ahoma"/>
              </a:rPr>
              <a:t>Nyheter og tilbu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5867280" y="152280"/>
            <a:ext cx="3257640" cy="80028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4952880" y="2057400"/>
            <a:ext cx="41911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62000" y="838080"/>
            <a:ext cx="8820000" cy="57150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1600200" y="22860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3333cc"/>
                </a:solidFill>
                <a:latin typeface="Tahoma"/>
              </a:rPr>
              <a:t>Integrert i CRM - Intranet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403960" y="6246720"/>
            <a:ext cx="299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000000"/>
                </a:solidFill>
                <a:latin typeface="Tahoma"/>
              </a:rPr>
              <a:t>Trykk på mobiltelefo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4266720" y="5257440"/>
            <a:ext cx="12193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 flipV="1">
            <a:off x="4266720" y="57146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715240" cy="518184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165960" y="5486400"/>
            <a:ext cx="89434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nb-NO" sz="1600" spc="-1" strike="noStrike">
                <a:solidFill>
                  <a:srgbClr val="000000"/>
                </a:solidFill>
                <a:latin typeface="Tahoma"/>
              </a:rPr>
              <a:t>Motta kalenderen din til mobilen på SMS fra systemet automati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nb-NO" sz="1600" spc="-1" strike="noStrike">
                <a:solidFill>
                  <a:srgbClr val="000000"/>
                </a:solidFill>
                <a:latin typeface="Tahoma"/>
              </a:rPr>
              <a:t>Varslinger om nye hendelser vedrørende kunden, dokumenter og diskusjonsgrupp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nb-NO" sz="1600" spc="-1" strike="noStrike">
                <a:solidFill>
                  <a:srgbClr val="000000"/>
                </a:solidFill>
                <a:latin typeface="Tahoma"/>
              </a:rPr>
              <a:t>Varslinger vedrørende forandringer i viktige prosjek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nb-NO" sz="1600" spc="-1" strike="noStrike">
                <a:solidFill>
                  <a:srgbClr val="000000"/>
                </a:solidFill>
                <a:latin typeface="Tahoma"/>
              </a:rPr>
              <a:t>Alle meldinger blir loggført i system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333399"/>
                </a:solidFill>
                <a:latin typeface="Tahoma"/>
              </a:rPr>
              <a:t>Andre mulighet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09480" y="2017800"/>
            <a:ext cx="8345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ahoma"/>
              </a:rPr>
              <a:t>Legemiddel industrien – Motivasjon og påminnel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ahoma"/>
              </a:rPr>
              <a:t>Tannleger – Påminnelser og innkallel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ahoma"/>
              </a:rPr>
              <a:t>Bibliotek – Påminnelser og nyh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ahoma"/>
              </a:rPr>
              <a:t>Musikkbransjen – SMS Markedsføring, nyheter og tilbu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ahoma"/>
              </a:rPr>
              <a:t>Forsikringsselskaper – Påminnelser om kilometerstand på bil/motorsykkel, viktige forandringer, ”påskepåminnelser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ahoma"/>
              </a:rPr>
              <a:t>Taxi/pizza bestil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ahoma"/>
              </a:rPr>
              <a:t>Oljeindustrien o.l - Plattformer, rapportering om kritiske hendelser der alle må ha raske oppdatering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5867280" y="152280"/>
            <a:ext cx="3257640" cy="8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333399"/>
                </a:solidFill>
                <a:latin typeface="Tahoma"/>
              </a:rPr>
              <a:t>Andre mulighet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7720" y="2017800"/>
            <a:ext cx="8116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ahoma"/>
              </a:rPr>
              <a:t>Transportbransjen – Beskjeder, oppdrag og viktig inf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ahoma"/>
              </a:rPr>
              <a:t>Intranett – all slags ”alarmer” ved forandring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ahoma"/>
              </a:rPr>
              <a:t>Skoler – forandring av timeplan, påminnelser ved innleveringer, sosiale ar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ahoma"/>
              </a:rPr>
              <a:t>CRM systemer – sende ut sms internt og ekster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ahoma"/>
              </a:rPr>
              <a:t>Prosjektstyringsverktøy – alarmer ved </a:t>
            </a:r>
            <a:r>
              <a:rPr b="0" i="1" lang="nb-NO" sz="2400" spc="-1" strike="noStrike">
                <a:solidFill>
                  <a:srgbClr val="000000"/>
                </a:solidFill>
                <a:latin typeface="Tahoma"/>
              </a:rPr>
              <a:t>ikke</a:t>
            </a:r>
            <a:r>
              <a:rPr b="0" lang="nb-NO" sz="2400" spc="-1" strike="noStrike">
                <a:solidFill>
                  <a:srgbClr val="000000"/>
                </a:solidFill>
                <a:latin typeface="Tahoma"/>
              </a:rPr>
              <a:t> utført oppga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ahoma"/>
              </a:rPr>
              <a:t>Publiseringsverktøy – konkurranser, viktige nyheter e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ahoma"/>
              </a:rPr>
              <a:t>Blomsterkjeder – påminnelser om morsdag, farsdag og valentinesdag med direkte bestilling tilbak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5867280" y="152280"/>
            <a:ext cx="3257640" cy="8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333399"/>
                </a:solidFill>
                <a:latin typeface="Tahoma"/>
              </a:rPr>
              <a:t>Andre mulighet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7720" y="2017800"/>
            <a:ext cx="8116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ahoma"/>
              </a:rPr>
              <a:t>Medlemsdatabaser – Masseutsendelser til medlemmer, kommunikasjon med grupper, påmelding til kurs, arrangement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ahoma"/>
              </a:rPr>
              <a:t>Eiendomsforvaltere – automatisk kommunikasjon med vaktmestere og håndtverk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ahoma"/>
              </a:rPr>
              <a:t>Servicenæring – Utsendelse av SMS når varen er ferdig, levert eller forsinket (workflow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ahoma"/>
              </a:rPr>
              <a:t>Internt bruk, kommunikasjon med ute medarbeidere, bedrifts – idrettslag, motivasjonmeldinger til selger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5867280" y="152280"/>
            <a:ext cx="3257640" cy="8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000" spc="-1" strike="noStrike">
                <a:solidFill>
                  <a:srgbClr val="333399"/>
                </a:solidFill>
                <a:latin typeface="Tahoma"/>
              </a:rPr>
              <a:t>Hvorfor - og fremtidsmuligheter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ahoma"/>
              </a:rPr>
              <a:t>Start ”registrering” av mobiltelefon numm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ahoma"/>
              </a:rPr>
              <a:t>Nyttetjenester utgjør i dag 5% av markedet – stort potensia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ahoma"/>
              </a:rPr>
              <a:t>Betalingsvilligheten er stor for nyttetjen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ahoma"/>
              </a:rPr>
              <a:t>Kundene blir interak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ahoma"/>
              </a:rPr>
              <a:t>Posisjoneringstjenester, MMS, foto og filmsnutt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ende bilder fra systemer til mobi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år du er i området, gi meg beskjed, send meg tilbud et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ilde av den nye Saab’en, blomsterbuketten eller andre artikl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5867280" y="152280"/>
            <a:ext cx="3257640" cy="8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2856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333399"/>
                </a:solidFill>
                <a:latin typeface="Tahoma"/>
              </a:rPr>
              <a:t>Spørsmål og kommentar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5867280" y="152280"/>
            <a:ext cx="3257640" cy="80028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3615120" y="6324480"/>
            <a:ext cx="194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Tahoma"/>
              </a:rPr>
              <a:t>Pil@quicklink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333399"/>
                </a:solidFill>
                <a:latin typeface="Tahoma"/>
              </a:rPr>
              <a:t>Agend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Tahoma"/>
              </a:rPr>
              <a:t>Bakgrun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Tahoma"/>
              </a:rPr>
              <a:t>Standardtjenes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Tahoma"/>
              </a:rPr>
              <a:t>Eksempler på tjenester som fin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Tahoma"/>
              </a:rPr>
              <a:t>Mulighetene for fremtid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Tahoma"/>
              </a:rPr>
              <a:t>SMS ++ er kommet for å bli – hvorfor vente til konkurrentene er d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Tahoma"/>
              </a:rPr>
              <a:t>Prising – rimelig kommunikasj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333399"/>
                </a:solidFill>
                <a:latin typeface="Tahoma"/>
              </a:rPr>
              <a:t>Bakgrun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430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Tahoma"/>
              </a:rPr>
              <a:t>QuickLink AS – bakgrunn fra Telia/oracle ”portal to go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Tahoma"/>
              </a:rPr>
              <a:t>SMS – ”bare for fjortiser” med ringelyder og logoer på mobilen ?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Tahoma"/>
              </a:rPr>
              <a:t>Vår ide’ – lage Mobile kommunikasjons løsninger basert på SMS til bedrifts marked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Stikkord - nyttetjen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867280" y="152280"/>
            <a:ext cx="3257640" cy="8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333399"/>
                </a:solidFill>
                <a:latin typeface="Tahoma"/>
              </a:rPr>
              <a:t>SMS – Ikke bare for fjortis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2120" y="2017800"/>
            <a:ext cx="8192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Tahoma"/>
              </a:rPr>
              <a:t>På verdensbasis – ca 1 mld SMS hver da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Tahoma"/>
              </a:rPr>
              <a:t>Norge – Ca 70 % av befolkningen har mobiltelef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Tahoma"/>
              </a:rPr>
              <a:t>Bare Finland og Island er representert høye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867280" y="152280"/>
            <a:ext cx="3257640" cy="8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333399"/>
                </a:solidFill>
                <a:latin typeface="Tahoma"/>
              </a:rPr>
              <a:t>Hvorfor benytte SMS 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2120" y="2361960"/>
            <a:ext cx="819288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Tahoma"/>
              </a:rPr>
              <a:t>Brukerne er modne og åpne for nyttetjeneste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Tahoma"/>
              </a:rPr>
              <a:t>Enkelt og prakti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Tahoma"/>
              </a:rPr>
              <a:t>Bedre kunde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Tahoma"/>
              </a:rPr>
              <a:t>Effektiv markedsfø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Tahoma"/>
              </a:rPr>
              <a:t>Økt kundetilfredsh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Tahoma"/>
              </a:rPr>
              <a:t>Raskere informasjonsfly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867280" y="152280"/>
            <a:ext cx="3257640" cy="8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333399"/>
                </a:solidFill>
                <a:latin typeface="Tahoma"/>
              </a:rPr>
              <a:t>SMS -</a:t>
            </a:r>
            <a:r>
              <a:rPr b="0" lang="nb-NO" sz="44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0" lang="nb-NO" sz="3200" spc="-1" strike="noStrike">
                <a:solidFill>
                  <a:srgbClr val="333399"/>
                </a:solidFill>
                <a:latin typeface="Tahoma"/>
              </a:rPr>
              <a:t>standardtjenest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886360" y="152280"/>
            <a:ext cx="3257640" cy="8002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685800" y="2133720"/>
            <a:ext cx="656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000000"/>
                </a:solidFill>
                <a:latin typeface="Times New Roman"/>
              </a:rPr>
              <a:t>SMS innbox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. Meldinger sendes inn – Standard svar tilbak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752480" y="411480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825200" y="3733920"/>
            <a:ext cx="236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400" spc="-1" strike="noStrike">
                <a:solidFill>
                  <a:srgbClr val="000000"/>
                </a:solidFill>
                <a:latin typeface="Times New Roman"/>
              </a:rPr>
              <a:t>QKONK M.Jackson  ”1938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419720" y="3733920"/>
            <a:ext cx="1447560" cy="838080"/>
          </a:xfrm>
          <a:prstGeom prst="flowChartMagneticDisk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570560" y="3429000"/>
            <a:ext cx="121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400" spc="-1" strike="noStrike">
                <a:solidFill>
                  <a:srgbClr val="000000"/>
                </a:solidFill>
                <a:latin typeface="Times New Roman"/>
              </a:rPr>
              <a:t>Quicklink 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8381880" y="3429000"/>
            <a:ext cx="528480" cy="1218960"/>
            <a:chOff x="8381880" y="3429000"/>
            <a:chExt cx="528480" cy="1218960"/>
          </a:xfrm>
        </p:grpSpPr>
        <p:sp>
          <p:nvSpPr>
            <p:cNvPr id="121" name=""/>
            <p:cNvSpPr/>
            <p:nvPr/>
          </p:nvSpPr>
          <p:spPr>
            <a:xfrm>
              <a:off x="8381880" y="3429000"/>
              <a:ext cx="18360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2" name="Nokia7110-1" descr=""/>
            <p:cNvPicPr/>
            <p:nvPr/>
          </p:nvPicPr>
          <p:blipFill>
            <a:blip r:embed="rId2"/>
            <a:stretch/>
          </p:blipFill>
          <p:spPr>
            <a:xfrm>
              <a:off x="8476920" y="3647160"/>
              <a:ext cx="433440" cy="1000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3" name=""/>
          <p:cNvSpPr/>
          <p:nvPr/>
        </p:nvSpPr>
        <p:spPr>
          <a:xfrm>
            <a:off x="6019920" y="419112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j0274774" descr=""/>
          <p:cNvPicPr/>
          <p:nvPr/>
        </p:nvPicPr>
        <p:blipFill>
          <a:blip r:embed="rId3"/>
          <a:stretch/>
        </p:blipFill>
        <p:spPr>
          <a:xfrm>
            <a:off x="380880" y="3429000"/>
            <a:ext cx="914400" cy="16002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838080" y="6095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01360" y="5562720"/>
            <a:ext cx="75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Eks: påmeldinger, inngående forespørsler, konkurranser et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03600" y="4572000"/>
            <a:ext cx="316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400" spc="-1" strike="noStrike">
                <a:solidFill>
                  <a:srgbClr val="000000"/>
                </a:solidFill>
                <a:latin typeface="Times New Roman"/>
              </a:rPr>
              <a:t>Takk for deltagelsen, vinneren vil bli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873680" y="4800600"/>
            <a:ext cx="368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400" spc="-1" strike="noStrike">
                <a:solidFill>
                  <a:srgbClr val="000000"/>
                </a:solidFill>
                <a:latin typeface="Times New Roman"/>
              </a:rPr>
              <a:t>Du er registrert på seminaret, se også www.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826280" y="4267080"/>
            <a:ext cx="222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400" spc="-1" strike="noStrike">
                <a:solidFill>
                  <a:srgbClr val="000000"/>
                </a:solidFill>
                <a:latin typeface="Times New Roman"/>
              </a:rPr>
              <a:t>Qseminar Per Hansen, xx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-838080">
              <a:buClr>
                <a:srgbClr val="333399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333399"/>
                </a:solidFill>
                <a:latin typeface="Tahoma"/>
              </a:rPr>
              <a:t>SMS Stasjon. </a:t>
            </a:r>
            <a:r>
              <a:rPr b="0" lang="nb-NO" sz="2400" spc="-1" strike="noStrike">
                <a:solidFill>
                  <a:srgbClr val="333399"/>
                </a:solidFill>
                <a:latin typeface="Tahoma"/>
              </a:rPr>
              <a:t>Brukeren melder seg på en SMS og</a:t>
            </a:r>
            <a:br>
              <a:rPr sz="2400"/>
            </a:br>
            <a:r>
              <a:rPr b="0" lang="nb-NO" sz="2400" spc="-1" strike="noStrike">
                <a:solidFill>
                  <a:srgbClr val="333399"/>
                </a:solidFill>
                <a:latin typeface="Tahoma"/>
              </a:rPr>
              <a:t>mottar meldinger helt til han melder seg av.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886360" y="152280"/>
            <a:ext cx="3257640" cy="800280"/>
          </a:xfrm>
          <a:prstGeom prst="rect">
            <a:avLst/>
          </a:prstGeom>
          <a:ln w="0">
            <a:noFill/>
          </a:ln>
        </p:spPr>
      </p:pic>
      <p:pic>
        <p:nvPicPr>
          <p:cNvPr id="132" name="j0274774" descr=""/>
          <p:cNvPicPr/>
          <p:nvPr/>
        </p:nvPicPr>
        <p:blipFill>
          <a:blip r:embed="rId2"/>
          <a:stretch/>
        </p:blipFill>
        <p:spPr>
          <a:xfrm>
            <a:off x="304920" y="2629080"/>
            <a:ext cx="914400" cy="16002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600200" y="342900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053440" y="2971800"/>
            <a:ext cx="176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400" spc="-1" strike="noStrike">
                <a:solidFill>
                  <a:srgbClr val="000000"/>
                </a:solidFill>
                <a:latin typeface="Times New Roman"/>
              </a:rPr>
              <a:t>QLinfo start  ”1938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711760" y="2971800"/>
            <a:ext cx="229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400" spc="-1" strike="noStrike">
                <a:solidFill>
                  <a:srgbClr val="000000"/>
                </a:solidFill>
                <a:latin typeface="Times New Roman"/>
              </a:rPr>
              <a:t>Du er påmeldt xxxxx, takk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67080" y="3009960"/>
            <a:ext cx="1447920" cy="838080"/>
          </a:xfrm>
          <a:prstGeom prst="flowChartMagneticDisk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42900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8229600" y="2514600"/>
            <a:ext cx="528120" cy="1218960"/>
            <a:chOff x="8229600" y="2514600"/>
            <a:chExt cx="528120" cy="1218960"/>
          </a:xfrm>
        </p:grpSpPr>
        <p:sp>
          <p:nvSpPr>
            <p:cNvPr id="139" name=""/>
            <p:cNvSpPr/>
            <p:nvPr/>
          </p:nvSpPr>
          <p:spPr>
            <a:xfrm>
              <a:off x="8229600" y="2514600"/>
              <a:ext cx="18360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0" name="Nokia7110-1" descr=""/>
            <p:cNvPicPr/>
            <p:nvPr/>
          </p:nvPicPr>
          <p:blipFill>
            <a:blip r:embed="rId3"/>
            <a:stretch/>
          </p:blipFill>
          <p:spPr>
            <a:xfrm>
              <a:off x="8324640" y="2732760"/>
              <a:ext cx="433080" cy="1000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1" name=""/>
          <p:cNvSpPr/>
          <p:nvPr/>
        </p:nvSpPr>
        <p:spPr>
          <a:xfrm>
            <a:off x="5791320" y="4800600"/>
            <a:ext cx="1447560" cy="838080"/>
          </a:xfrm>
          <a:prstGeom prst="flowChartMagneticDisk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j0274774" descr=""/>
          <p:cNvPicPr/>
          <p:nvPr/>
        </p:nvPicPr>
        <p:blipFill>
          <a:blip r:embed="rId4"/>
          <a:stretch/>
        </p:blipFill>
        <p:spPr>
          <a:xfrm>
            <a:off x="228600" y="4419720"/>
            <a:ext cx="914400" cy="16002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 flipH="1">
            <a:off x="1599840" y="541008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76240" y="603576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Eks; Bedriftsinfo, kritiske informasjoner, forespørsler,      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nb-NO" sz="2400" spc="-1" strike="noStrike">
                <a:solidFill>
                  <a:srgbClr val="000000"/>
                </a:solidFill>
                <a:latin typeface="Times New Roman"/>
              </a:rPr>
              <a:t>radarvarsletjenes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45280" y="4724280"/>
            <a:ext cx="4129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400" spc="-1" strike="noStrike">
                <a:solidFill>
                  <a:srgbClr val="000000"/>
                </a:solidFill>
                <a:latin typeface="Times New Roman"/>
              </a:rPr>
              <a:t>Vi har et parti med kontantkort fra Netcom for ku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400" spc="-1" strike="noStrike">
                <a:solidFill>
                  <a:srgbClr val="000000"/>
                </a:solidFill>
                <a:latin typeface="Times New Roman"/>
              </a:rPr>
              <a:t>330 kr pr stk, bestill – send QB ”antall” til 1938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976040" y="3429000"/>
            <a:ext cx="179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400" spc="-1" strike="noStrike">
                <a:solidFill>
                  <a:srgbClr val="000000"/>
                </a:solidFill>
                <a:latin typeface="Times New Roman"/>
              </a:rPr>
              <a:t>xxstatus start ”1938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062440" y="5486400"/>
            <a:ext cx="305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600" spc="-1" strike="noStrike">
                <a:solidFill>
                  <a:srgbClr val="000000"/>
                </a:solidFill>
                <a:latin typeface="Times New Roman"/>
              </a:rPr>
              <a:t>Det er 550 artikler på lager av 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866200" y="5181480"/>
            <a:ext cx="301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000000"/>
                </a:solidFill>
                <a:latin typeface="Times New Roman"/>
              </a:rPr>
              <a:t>Kundens datasystem, crm, intranett etc</a:t>
            </a:r>
            <a:r>
              <a:rPr b="0" lang="nb-NO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5886360" y="152280"/>
            <a:ext cx="3257640" cy="80028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333399"/>
                </a:solidFill>
                <a:latin typeface="Tahoma"/>
              </a:rPr>
              <a:t>3. URL SMS.</a:t>
            </a:r>
            <a:r>
              <a:rPr b="0" lang="nb-NO" sz="2400" spc="-1" strike="noStrike">
                <a:solidFill>
                  <a:srgbClr val="333399"/>
                </a:solidFill>
                <a:latin typeface="Tahoma"/>
              </a:rPr>
              <a:t> </a:t>
            </a:r>
            <a:br>
              <a:rPr sz="2400"/>
            </a:br>
            <a:r>
              <a:rPr b="0" lang="nb-NO" sz="2400" spc="-1" strike="noStrike">
                <a:solidFill>
                  <a:srgbClr val="333399"/>
                </a:solidFill>
                <a:latin typeface="Tahoma"/>
              </a:rPr>
              <a:t>Aut. genererte meldinger til sluttbrukeren.</a:t>
            </a:r>
            <a:r>
              <a:rPr b="1" lang="nb-NO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nb-NO" sz="2400" spc="-1" strike="noStrike">
                <a:solidFill>
                  <a:srgbClr val="333399"/>
                </a:solidFill>
                <a:latin typeface="Tahoma"/>
              </a:rPr>
              <a:t>Direkte fra en forespørsel eller fra databasen til kunden.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457200" y="2209680"/>
            <a:ext cx="528120" cy="1218960"/>
            <a:chOff x="457200" y="2209680"/>
            <a:chExt cx="528120" cy="1218960"/>
          </a:xfrm>
        </p:grpSpPr>
        <p:sp>
          <p:nvSpPr>
            <p:cNvPr id="152" name=""/>
            <p:cNvSpPr/>
            <p:nvPr/>
          </p:nvSpPr>
          <p:spPr>
            <a:xfrm>
              <a:off x="457200" y="2209680"/>
              <a:ext cx="18360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3" name="Nokia7110-1" descr=""/>
            <p:cNvPicPr/>
            <p:nvPr/>
          </p:nvPicPr>
          <p:blipFill>
            <a:blip r:embed="rId2"/>
            <a:stretch/>
          </p:blipFill>
          <p:spPr>
            <a:xfrm>
              <a:off x="552240" y="2427840"/>
              <a:ext cx="433080" cy="1000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4" name=""/>
          <p:cNvSpPr/>
          <p:nvPr/>
        </p:nvSpPr>
        <p:spPr>
          <a:xfrm>
            <a:off x="990720" y="274320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819520" y="2590920"/>
            <a:ext cx="1143000" cy="838080"/>
          </a:xfrm>
          <a:prstGeom prst="flowChartMagneticDisk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894040" y="2743200"/>
            <a:ext cx="898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000000"/>
                </a:solidFill>
                <a:latin typeface="Times New Roman"/>
              </a:rPr>
              <a:t>Quickli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nb-NO" sz="1400" spc="-1" strike="noStrike">
                <a:solidFill>
                  <a:srgbClr val="000000"/>
                </a:solidFill>
                <a:latin typeface="Times New Roman"/>
              </a:rPr>
              <a:t>193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038480" y="274320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2590920"/>
            <a:ext cx="1143000" cy="838080"/>
          </a:xfrm>
          <a:prstGeom prst="flowChartMagneticDisk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172560" y="2743200"/>
            <a:ext cx="842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000000"/>
                </a:solidFill>
                <a:latin typeface="Times New Roman"/>
              </a:rPr>
              <a:t>Kunde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b-NO" sz="14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988200" y="2438280"/>
            <a:ext cx="1463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400" spc="-1" strike="noStrike">
                <a:solidFill>
                  <a:srgbClr val="000000"/>
                </a:solidFill>
                <a:latin typeface="Times New Roman"/>
              </a:rPr>
              <a:t>NA saldo ”1938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884040" y="2438280"/>
            <a:ext cx="193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400" spc="-1" strike="noStrike">
                <a:solidFill>
                  <a:srgbClr val="000000"/>
                </a:solidFill>
                <a:latin typeface="Times New Roman"/>
              </a:rPr>
              <a:t>Meldingen vidresen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451640" y="283068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000000"/>
                </a:solidFill>
                <a:latin typeface="Times New Roman"/>
              </a:rPr>
              <a:t>Behand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3962160" y="320040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914400" y="320040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911880" y="2895480"/>
            <a:ext cx="1611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400" spc="-1" strike="noStrike">
                <a:solidFill>
                  <a:srgbClr val="000000"/>
                </a:solidFill>
                <a:latin typeface="Times New Roman"/>
              </a:rPr>
              <a:t>Din saldo er 5700,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00200" y="4419720"/>
            <a:ext cx="7642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Eks; saldo på kreditt, interne tlf.nr, innrapporteringer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automatiske statusrapporter, avlesning av beholdninger i D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06720" y="5765760"/>
            <a:ext cx="673056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600" spc="-1" strike="noStrike">
                <a:solidFill>
                  <a:srgbClr val="000000"/>
                </a:solidFill>
                <a:latin typeface="Times New Roman"/>
              </a:rPr>
              <a:t>Kan bruke HTTP eller SMTP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http://dio.</a:t>
            </a:r>
            <a:r>
              <a:rPr b="1" lang="nb-NO" sz="1400" spc="-1" strike="noStrike">
                <a:solidFill>
                  <a:srgbClr val="000000"/>
                </a:solidFill>
                <a:latin typeface="Times New Roman"/>
              </a:rPr>
              <a:t>quicklink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.com/push.php?bruker=brukernavn&amp;passord=passord&amp;til=4104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13&amp;avsender=NavnEllerNummer&amp;melding=Meldingsteks</a:t>
            </a:r>
            <a:r>
              <a:rPr b="1" lang="nb-NO" sz="1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333399"/>
                </a:solidFill>
                <a:latin typeface="Tahoma"/>
              </a:rPr>
              <a:t>Exempler : Trumfkorte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51920" y="2209680"/>
            <a:ext cx="525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ahoma"/>
              </a:rPr>
              <a:t>Direkte fra større databa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ahoma"/>
              </a:rPr>
              <a:t>Trumfkortet, Shell påminnel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ahoma"/>
              </a:rPr>
              <a:t>Koblet direkte til CRM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ahoma"/>
              </a:rPr>
              <a:t>Sluttkunden har samtykket i å motta informasjon fra Shel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ahoma"/>
              </a:rPr>
              <a:t>SMS når deg hvor du enn er – du har med mobiltelefone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486400" y="2357280"/>
            <a:ext cx="3468600" cy="343404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867280" y="152280"/>
            <a:ext cx="3257640" cy="8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4T18:21:31Z</dcterms:created>
  <dc:creator>Halebop</dc:creator>
  <dc:description/>
  <dc:language>en-US</dc:language>
  <cp:lastModifiedBy>QuickLink</cp:lastModifiedBy>
  <dcterms:modified xsi:type="dcterms:W3CDTF">2002-05-28T12:58:24Z</dcterms:modified>
  <cp:revision>42</cp:revision>
  <dc:subject/>
  <dc:title>Mobile Communication Solutions and Direct Marketing</dc:title>
</cp:coreProperties>
</file>