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5.png" ContentType="image/png"/>
  <Override PartName="/ppt/media/image32.gif" ContentType="image/gif"/>
  <Override PartName="/ppt/media/image23.png" ContentType="image/png"/>
  <Override PartName="/ppt/media/image22.png" ContentType="image/png"/>
  <Override PartName="/ppt/media/image14.wmf" ContentType="image/x-wmf"/>
  <Override PartName="/ppt/media/image6.png" ContentType="image/png"/>
  <Override PartName="/ppt/media/image29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13.png" ContentType="image/png"/>
  <Override PartName="/ppt/media/image33.gif" ContentType="image/gif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26.jpeg" ContentType="image/jpeg"/>
  <Override PartName="/ppt/media/image19.png" ContentType="image/png"/>
  <Override PartName="/ppt/media/image21.png" ContentType="image/png"/>
  <Override PartName="/ppt/media/image18.wmf" ContentType="image/x-wmf"/>
  <Override PartName="/ppt/media/image2.jpeg" ContentType="image/jpe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6248520"/>
            <a:ext cx="8839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228600" y="0"/>
          <a:ext cx="8915400" cy="69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0"/>
                    <a:ext cx="8915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304920" y="6248520"/>
            <a:ext cx="8839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228600" y="0"/>
          <a:ext cx="8915400" cy="696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0"/>
                    <a:ext cx="8915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gif"/><Relationship Id="rId7" Type="http://schemas.openxmlformats.org/officeDocument/2006/relationships/image" Target="../media/image33.gif"/><Relationship Id="rId8" Type="http://schemas.openxmlformats.org/officeDocument/2006/relationships/image" Target="../media/image33.gif"/><Relationship Id="rId9" Type="http://schemas.openxmlformats.org/officeDocument/2006/relationships/image" Target="../media/image32.gif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6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7.wmf"/><Relationship Id="rId9" Type="http://schemas.openxmlformats.org/officeDocument/2006/relationships/image" Target="../media/image16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7.wmf"/><Relationship Id="rId13" Type="http://schemas.openxmlformats.org/officeDocument/2006/relationships/image" Target="../media/image16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7.wmf"/><Relationship Id="rId5" Type="http://schemas.openxmlformats.org/officeDocument/2006/relationships/image" Target="../media/image16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7.wmf"/><Relationship Id="rId9" Type="http://schemas.openxmlformats.org/officeDocument/2006/relationships/image" Target="../media/image16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7.wmf"/><Relationship Id="rId13" Type="http://schemas.openxmlformats.org/officeDocument/2006/relationships/image" Target="../media/image18.wmf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57200" y="1512720"/>
          <a:ext cx="13792320" cy="10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12720"/>
                    <a:ext cx="1379232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203640" y="3141720"/>
            <a:ext cx="432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Portal med Content Management Server og Digital Dash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8077320" y="1143000"/>
            <a:ext cx="739116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553080" y="1295280"/>
            <a:ext cx="160992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543800" y="2133720"/>
            <a:ext cx="1147680" cy="1360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315200" y="1371600"/>
            <a:ext cx="128736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09588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3328920" y="5181480"/>
            <a:ext cx="0" cy="1689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4038480"/>
            <a:ext cx="2882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Presentert av Øyvind Gellein</a:t>
            </a:r>
            <a:r>
              <a:rPr b="1" lang="nb-NO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3413880" y="475452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Mai 200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3222000" y="4343400"/>
            <a:ext cx="20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lein@nettspesialisten.n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Microsoft SQL Server Digital Dashboard 3.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Portal som bygges opp med WEB pa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WEB parts består av HTML, XML eller scrip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WEB parts og bruker-data lagres i SQL ser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1557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Verdana"/>
              </a:rPr>
              <a:t>Digital Dashboar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00720" y="3213000"/>
            <a:ext cx="4248000" cy="3346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0" y="3933720"/>
            <a:ext cx="1008000" cy="1150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3933720"/>
            <a:ext cx="1944720" cy="1800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7524720" y="3933720"/>
            <a:ext cx="1150920" cy="647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7524720" y="4581360"/>
            <a:ext cx="1152720" cy="863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5084640"/>
            <a:ext cx="1008000" cy="792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3500280"/>
            <a:ext cx="2016000" cy="8290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&lt;H1&gt;Prosedyrer&lt;/H1&gt;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&lt;iframe width=100% border=0 src="http://sql-sola/IT/Prosedyrer"&gt;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&lt;/iframe&gt;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2195640" y="3141720"/>
            <a:ext cx="1871640" cy="5857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0000"/>
                </a:solidFill>
                <a:latin typeface="Verdana"/>
              </a:rPr>
              <a:t>Function DoSomething(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b-NO" sz="800" spc="-1" strike="noStrike">
                <a:solidFill>
                  <a:srgbClr val="000000"/>
                </a:solidFill>
                <a:latin typeface="Verdana"/>
              </a:rPr>
              <a:t>response.write(”hello World”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0000"/>
                </a:solidFill>
                <a:latin typeface="Verdana"/>
              </a:rPr>
              <a:t>End function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1619280" y="4005360"/>
            <a:ext cx="2735280" cy="9558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&lt;?xml version=“1.0” encoding=“ISO-8859-1”?&gt;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0000"/>
                </a:solidFill>
                <a:latin typeface="Verdana"/>
              </a:rPr>
              <a:t>&lt;phonebook&gt;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800" spc="-1" strike="noStrike">
                <a:solidFill>
                  <a:srgbClr val="000000"/>
                </a:solidFill>
                <a:latin typeface="Verdana"/>
              </a:rPr>
              <a:t>&lt;ansatt&gt;&lt;/ansatt&gt;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800" spc="-1" strike="noStrike">
                <a:solidFill>
                  <a:srgbClr val="000000"/>
                </a:solidFill>
                <a:latin typeface="Verdana"/>
              </a:rPr>
              <a:t>&lt;phone&gt;&lt;/phone&gt;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0000"/>
                </a:solidFill>
                <a:latin typeface="Verdana"/>
              </a:rPr>
              <a:t>&lt;/phonebook&gt;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4869000"/>
          <a:ext cx="1881000" cy="161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869000"/>
                    <a:ext cx="1881000" cy="16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3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19 0.00486 C 0.21875 -0.02824 0.37552 -0.06041 0.45538 -0.08657 C 0.53594 -0.1125 0.52865 -0.14097 0.54358 -0.15185 E">
                                      <p:cBhvr>
                                        <p:cTn id="328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25 0.1294 C 0.4158 0.08704 0.3191 0.04468 0.23368 0.02315 C 0.14826 0.00162 0.03889 0.00394 1.66667E-006 0 E">
                                      <p:cBhvr>
                                        <p:cTn id="373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191 0.05486 C 0.22413 0.03171 0.1967 0.00856 0.15486 -0.00047 C 0.11285 -0.0095 0.0257 4.81481E-006 -2.5E-006 4.81481E-006 E">
                                      <p:cBhvr>
                                        <p:cTn id="380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938 0.08797 C 0.49757 0.05278 0.43663 0.01783 0.34375 0.00417 C 0.25052 -0.00949 0.05695 0.00486 -2.5E-006 0.00486 E">
                                      <p:cBhvr>
                                        <p:cTn id="387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44444E-006 C 0.0743 0.09445 0.14896 0.18912 0.12396 0.24167 C 0.0993 0.29399 -0.10191 0.30255 -0.1474 0.31436 E">
                                      <p:cBhvr>
                                        <p:cTn id="401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5174 0.08032 0.10365 0.16065 0.08646 0.20509 C 0.06927 0.24954 -0.07118 0.25671 -0.10295 0.26667 E">
                                      <p:cBhvr>
                                        <p:cTn id="403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39 0.00486 C 0.0375 0.06134 0.12709 0.11806 0.09722 0.14954 C 0.06788 0.18079 -0.17361 0.18588 -0.22812 0.19306 E">
                                      <p:cBhvr>
                                        <p:cTn id="40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588000" y="62064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Digital Dashboa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1413000"/>
            <a:ext cx="6840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Bruker kan selv velge WEB pa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Bruker kan selv endre plassering av WEB pa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419640" y="2205000"/>
            <a:ext cx="5256000" cy="4411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419640" y="2205000"/>
            <a:ext cx="5257800" cy="43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47640" y="1297080"/>
            <a:ext cx="6208920" cy="4992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588000" y="62064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Digital Dashboa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08920" cy="4992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47640" y="1268280"/>
            <a:ext cx="6193080" cy="865440"/>
          </a:xfrm>
          <a:prstGeom prst="rect">
            <a:avLst/>
          </a:prstGeom>
          <a:solidFill>
            <a:srgbClr val="eaeaea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2133720"/>
            <a:ext cx="1729080" cy="1726920"/>
          </a:xfrm>
          <a:prstGeom prst="rect">
            <a:avLst/>
          </a:prstGeom>
          <a:solidFill>
            <a:srgbClr val="eaeaea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2133720"/>
            <a:ext cx="2735280" cy="3743280"/>
          </a:xfrm>
          <a:prstGeom prst="rect">
            <a:avLst/>
          </a:prstGeom>
          <a:solidFill>
            <a:srgbClr val="eaeaea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1547640" y="3860640"/>
            <a:ext cx="1727280" cy="2016360"/>
          </a:xfrm>
          <a:prstGeom prst="rect">
            <a:avLst/>
          </a:prstGeom>
          <a:solidFill>
            <a:srgbClr val="eaeaea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6012000" y="2133720"/>
            <a:ext cx="1728720" cy="3743280"/>
          </a:xfrm>
          <a:prstGeom prst="rect">
            <a:avLst/>
          </a:prstGeom>
          <a:solidFill>
            <a:srgbClr val="eaeaea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6588000" y="62064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Digital Dashboa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5761080" cy="4283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427640" y="1052640"/>
            <a:ext cx="4608360" cy="2952720"/>
          </a:xfrm>
          <a:prstGeom prst="rect">
            <a:avLst/>
          </a:prstGeom>
          <a:solidFill>
            <a:srgbClr val="eaeaea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124000" y="3500280"/>
            <a:ext cx="2305080" cy="1309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0920" y="1052280"/>
            <a:ext cx="388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Verdana"/>
              </a:rPr>
              <a:t>Integrasj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500720" y="1197000"/>
            <a:ext cx="446220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Bygg menyer dynamisk med CM server AP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Menyer for hver kanaler kan vises i seperate web pa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Vis formaterte CM sid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Bygg sammendrag av innhold dynamisk med CM server AP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Kommuniserer via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124000" y="4941720"/>
            <a:ext cx="2305080" cy="1360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539640" y="5270400"/>
            <a:ext cx="1474920" cy="1131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539640" y="3525840"/>
            <a:ext cx="1474920" cy="1739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3059280" y="5229360"/>
            <a:ext cx="1008000" cy="590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755640" y="4365720"/>
            <a:ext cx="865080" cy="677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755640" y="5805360"/>
            <a:ext cx="865080" cy="677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3059280" y="3716280"/>
            <a:ext cx="1008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4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85 0.00579 L 0.48819 -0.06782 E">
                                      <p:cBhvr>
                                        <p:cTn id="467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7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47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48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50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5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Demo av po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549360"/>
            <a:ext cx="85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Verdana"/>
              </a:rPr>
              <a:t>Content Management Serv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68000" y="1197000"/>
            <a:ext cx="367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Hvorfor Content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Content Management 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Digital Dashboa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Integrasj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84 -0.0051 L 0.4842 -0.08912 E">
                                      <p:cBhvr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102200" y="3875040"/>
          <a:ext cx="2562120" cy="26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02200" y="3875040"/>
                    <a:ext cx="256212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95280" y="1197000"/>
            <a:ext cx="85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Verdana"/>
              </a:rPr>
              <a:t>Hvorfor Content Management Serv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156360" y="4653000"/>
          <a:ext cx="1109520" cy="122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4653000"/>
                    <a:ext cx="11095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7236000" y="4508640"/>
          <a:ext cx="655560" cy="143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6000" y="4508640"/>
                    <a:ext cx="65556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2050920" y="4365720"/>
            <a:ext cx="1387440" cy="1722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3995640" y="3860640"/>
            <a:ext cx="3961080" cy="2698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708360" y="4508640"/>
            <a:ext cx="720720" cy="936360"/>
          </a:xfrm>
          <a:custGeom>
            <a:avLst/>
            <a:gdLst>
              <a:gd name="textAreaLeft" fmla="*/ 112320 w 720720"/>
              <a:gd name="textAreaRight" fmla="*/ 630720 w 720720"/>
              <a:gd name="textAreaTop" fmla="*/ 234000 h 936360"/>
              <a:gd name="textAreaBottom" fmla="*/ 702360 h 93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6626160" cy="28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Alle produserer innho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Innhold presenteres i et felles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Levering av personlige innhold basert på bruker eller de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Endringer av innhold og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809 0.00578 L 0.24027 -0.09931 E">
                                      <p:cBhvr>
                                        <p:cTn id="39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2835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sk og enkel publisering til WE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dlikehold og oppdatering av WEB s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Skille innhold og desig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4365720"/>
            <a:ext cx="1906560" cy="2185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86200" y="62064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Hvorfor Content Management Ser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867280" y="4581360"/>
            <a:ext cx="820800" cy="1511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987640" y="3357720"/>
            <a:ext cx="986040" cy="1815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116760" y="5073480"/>
            <a:ext cx="566640" cy="9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96296E-006 C 0.0316 0.00532 0.05521 -0.04491 0.06927 -0.07639 C 0.08334 -0.1081 0.08993 -0.1507 0.0849 -0.18982 C 0.08004 -0.22917 0.06337 -0.2956 0.03993 -0.31227 C 0.01632 -0.32871 -0.03055 -0.30973 -0.05642 -0.29028 C -0.08211 -0.27084 -0.10382 -0.22709 -0.11441 -0.19676 C -0.12465 -0.16598 -0.13871 -0.13935 -0.11944 -0.10672 C -0.09965 -0.07454 -0.03142 -0.0051 -3.61111E-006 2.96296E-006 Z">
                                      <p:cBhvr>
                                        <p:cTn id="10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11111E-006 L -0.14167 -0.19977 E">
                                      <p:cBhvr>
                                        <p:cTn id="11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052 0.17215 C 0.21788 0.08943 0.13559 0.00718 0.08541 -0.02109 C 0.03541 -0.04889 0.01354 -0.00186 4.44444E-006 0.00231 E">
                                      <p:cBhvr>
                                        <p:cTn id="11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932360" y="4365720"/>
            <a:ext cx="1906560" cy="2185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4406760" cy="3413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867280" y="4581360"/>
            <a:ext cx="820800" cy="1511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7128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Verdana"/>
              </a:rPr>
              <a:t>Content Management Serv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Ikke data tekniske kunnskaps-beh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In Context” redig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Work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7020000" y="2924280"/>
            <a:ext cx="636480" cy="865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7740720" y="4005360"/>
            <a:ext cx="1008000" cy="996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5724360" y="2997360"/>
            <a:ext cx="1390680" cy="126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3708360" y="4221000"/>
            <a:ext cx="903240" cy="100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6732720" y="4941720"/>
          <a:ext cx="1109520" cy="1227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32720" y="4941720"/>
                    <a:ext cx="11095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222 -0.01112 L 0.37413 -0.11621 E">
                                      <p:cBhvr>
                                        <p:cTn id="124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1000" fill="hold"/>
                                        <p:tgtEl>
                                          <p:spTgt spid="7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6.48749E-008 L 0.19688 -0.09476 E">
                                      <p:cBhvr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688 -0.09477 C 0.14219 -0.01344 0.08889 0.06904 0.03212 0.10055 C -0.02396 0.13392 -0.11441 0.09824 -0.14392 0.09592 E">
                                      <p:cBhvr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375 0.09606 C -0.10885 0.13657 -0.07396 0.17708 -0.04062 0.18032 C -0.00711 0.18356 0.03959 0.12801 0.05695 0.11597 C 0.07414 0.10416 0.0625 0.10995 0.06354 0.10879 E">
                                      <p:cBhvr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Verdana"/>
              </a:rPr>
              <a:t>Kanaler og rol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5684760" y="593640"/>
            <a:ext cx="34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ontent Management Ser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020000" y="2924280"/>
            <a:ext cx="636480" cy="865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740720" y="4005360"/>
            <a:ext cx="1008000" cy="996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724360" y="2997360"/>
            <a:ext cx="1390680" cy="126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708360" y="4221000"/>
            <a:ext cx="903240" cy="100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39640" y="2133720"/>
          <a:ext cx="2016000" cy="93492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971640" y="3276720"/>
          <a:ext cx="2466720" cy="944280"/>
        </p:xfrm>
        <a:graphic>
          <a:graphicData uri="http://schemas.openxmlformats.org/drawingml/2006/table">
            <a:tbl>
              <a:tblPr/>
              <a:tblGrid>
                <a:gridCol w="2466720"/>
              </a:tblGrid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w C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042920" y="4437000"/>
          <a:ext cx="2447640" cy="993600"/>
        </p:xfrm>
        <a:graphic>
          <a:graphicData uri="http://schemas.openxmlformats.org/drawingml/2006/table">
            <a:tbl>
              <a:tblPr/>
              <a:tblGrid>
                <a:gridCol w="2447640"/>
              </a:tblGrid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d C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3059280" y="3213000"/>
            <a:ext cx="1469880" cy="1144440"/>
            <a:chOff x="3059280" y="3213000"/>
            <a:chExt cx="1469880" cy="1144440"/>
          </a:xfrm>
        </p:grpSpPr>
        <p:pic>
          <p:nvPicPr>
            <p:cNvPr id="97" name="" descr=""/>
            <p:cNvPicPr/>
            <p:nvPr/>
          </p:nvPicPr>
          <p:blipFill>
            <a:blip r:embed="rId5"/>
            <a:stretch/>
          </p:blipFill>
          <p:spPr>
            <a:xfrm>
              <a:off x="3059280" y="3213000"/>
              <a:ext cx="126684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6"/>
            <a:stretch/>
          </p:blipFill>
          <p:spPr>
            <a:xfrm>
              <a:off x="3562560" y="3357360"/>
              <a:ext cx="5461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3635280" y="3502080"/>
              <a:ext cx="61596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8"/>
            <a:stretch/>
          </p:blipFill>
          <p:spPr>
            <a:xfrm>
              <a:off x="3706920" y="3646440"/>
              <a:ext cx="822240" cy="71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3203640" y="4437000"/>
            <a:ext cx="1469880" cy="1144440"/>
            <a:chOff x="3203640" y="4437000"/>
            <a:chExt cx="1469880" cy="1144440"/>
          </a:xfrm>
        </p:grpSpPr>
        <p:pic>
          <p:nvPicPr>
            <p:cNvPr id="102" name="" descr=""/>
            <p:cNvPicPr/>
            <p:nvPr/>
          </p:nvPicPr>
          <p:blipFill>
            <a:blip r:embed="rId9"/>
            <a:stretch/>
          </p:blipFill>
          <p:spPr>
            <a:xfrm>
              <a:off x="3203640" y="4437000"/>
              <a:ext cx="126684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0"/>
            <a:stretch/>
          </p:blipFill>
          <p:spPr>
            <a:xfrm>
              <a:off x="3706920" y="4581360"/>
              <a:ext cx="5461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1"/>
            <a:stretch/>
          </p:blipFill>
          <p:spPr>
            <a:xfrm>
              <a:off x="3779640" y="4726080"/>
              <a:ext cx="61596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2"/>
            <a:stretch/>
          </p:blipFill>
          <p:spPr>
            <a:xfrm>
              <a:off x="3851280" y="4870440"/>
              <a:ext cx="822240" cy="71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2268360" y="2060640"/>
            <a:ext cx="1469880" cy="1144440"/>
            <a:chOff x="2268360" y="2060640"/>
            <a:chExt cx="1469880" cy="1144440"/>
          </a:xfrm>
        </p:grpSpPr>
        <p:pic>
          <p:nvPicPr>
            <p:cNvPr id="107" name="" descr=""/>
            <p:cNvPicPr/>
            <p:nvPr/>
          </p:nvPicPr>
          <p:blipFill>
            <a:blip r:embed="rId13"/>
            <a:stretch/>
          </p:blipFill>
          <p:spPr>
            <a:xfrm>
              <a:off x="2268360" y="2060640"/>
              <a:ext cx="126684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4"/>
            <a:stretch/>
          </p:blipFill>
          <p:spPr>
            <a:xfrm>
              <a:off x="2771640" y="2205000"/>
              <a:ext cx="5461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5"/>
            <a:stretch/>
          </p:blipFill>
          <p:spPr>
            <a:xfrm>
              <a:off x="2844360" y="2349720"/>
              <a:ext cx="61596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6"/>
            <a:stretch/>
          </p:blipFill>
          <p:spPr>
            <a:xfrm>
              <a:off x="2916000" y="2494080"/>
              <a:ext cx="822240" cy="71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5 -0.05347 C -0.06423 -0.16597 -0.09531 -0.28079 -0.18593 -0.32755 C -0.27673 -0.375 -0.51302 -0.33357 -0.57812 -0.33495 E">
                                      <p:cBhvr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500" fill="hold"/>
                                        <p:tgtEl>
                                          <p:spTgt spid="9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500" fill="hold"/>
                                        <p:tgtEl>
                                          <p:spTgt spid="8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46945E-018 C -0.05191 -0.07246 -0.10382 -0.14491 -0.18368 -0.1581 C -0.26354 -0.1713 -0.42986 -0.09213 -0.47917 -0.07894 E">
                                      <p:cBhvr>
                                        <p:cTn id="219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6 -0.03889 C -0.06267 -0.09005 -0.1085 -0.14121 -0.16163 -0.15857 C -0.21475 -0.17593 -0.30625 -0.14584 -0.33593 -0.14329 E">
                                      <p:cBhvr>
                                        <p:cTn id="221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500" fill="hold"/>
                                        <p:tgtEl>
                                          <p:spTgt spid="9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9259E-006 C -0.02552 -0.13843 -0.05069 -0.27639 -0.07031 -0.32199 C -0.08993 -0.36736 -0.11007 -0.28357 -0.11806 -0.27593 E">
                                      <p:cBhvr>
                                        <p:cTn id="225" dur="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539640" y="2133720"/>
          <a:ext cx="2016000" cy="93492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90720" y="3276720"/>
          <a:ext cx="2447640" cy="944280"/>
        </p:xfrm>
        <a:graphic>
          <a:graphicData uri="http://schemas.openxmlformats.org/drawingml/2006/table">
            <a:tbl>
              <a:tblPr/>
              <a:tblGrid>
                <a:gridCol w="2447640"/>
              </a:tblGrid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w C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042920" y="4437000"/>
          <a:ext cx="2447640" cy="993600"/>
        </p:xfrm>
        <a:graphic>
          <a:graphicData uri="http://schemas.openxmlformats.org/drawingml/2006/table">
            <a:tbl>
              <a:tblPr/>
              <a:tblGrid>
                <a:gridCol w="2447640"/>
              </a:tblGrid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d C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4" name=""/>
          <p:cNvGrpSpPr/>
          <p:nvPr/>
        </p:nvGrpSpPr>
        <p:grpSpPr>
          <a:xfrm>
            <a:off x="3059280" y="3213000"/>
            <a:ext cx="1469880" cy="1144440"/>
            <a:chOff x="3059280" y="3213000"/>
            <a:chExt cx="1469880" cy="114444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3059280" y="3213000"/>
              <a:ext cx="126684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3562560" y="3357360"/>
              <a:ext cx="5461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3635280" y="3502080"/>
              <a:ext cx="61596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3706920" y="3646440"/>
              <a:ext cx="822240" cy="71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3203640" y="4437000"/>
            <a:ext cx="1469880" cy="1144440"/>
            <a:chOff x="3203640" y="4437000"/>
            <a:chExt cx="1469880" cy="1144440"/>
          </a:xfrm>
        </p:grpSpPr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3203640" y="4437000"/>
              <a:ext cx="126684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3706920" y="4581360"/>
              <a:ext cx="5461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7"/>
            <a:stretch/>
          </p:blipFill>
          <p:spPr>
            <a:xfrm>
              <a:off x="3779640" y="4726080"/>
              <a:ext cx="61596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8"/>
            <a:stretch/>
          </p:blipFill>
          <p:spPr>
            <a:xfrm>
              <a:off x="3851280" y="4870440"/>
              <a:ext cx="822240" cy="71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2268360" y="2060640"/>
            <a:ext cx="1469880" cy="1144440"/>
            <a:chOff x="2268360" y="2060640"/>
            <a:chExt cx="1469880" cy="1144440"/>
          </a:xfrm>
        </p:grpSpPr>
        <p:pic>
          <p:nvPicPr>
            <p:cNvPr id="125" name="" descr=""/>
            <p:cNvPicPr/>
            <p:nvPr/>
          </p:nvPicPr>
          <p:blipFill>
            <a:blip r:embed="rId9"/>
            <a:stretch/>
          </p:blipFill>
          <p:spPr>
            <a:xfrm>
              <a:off x="2268360" y="2060640"/>
              <a:ext cx="126684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10"/>
            <a:stretch/>
          </p:blipFill>
          <p:spPr>
            <a:xfrm>
              <a:off x="2771640" y="2205000"/>
              <a:ext cx="5461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1"/>
            <a:stretch/>
          </p:blipFill>
          <p:spPr>
            <a:xfrm>
              <a:off x="2844360" y="2349720"/>
              <a:ext cx="61596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12"/>
            <a:stretch/>
          </p:blipFill>
          <p:spPr>
            <a:xfrm>
              <a:off x="2916000" y="2494080"/>
              <a:ext cx="822240" cy="71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" descr=""/>
          <p:cNvPicPr/>
          <p:nvPr/>
        </p:nvPicPr>
        <p:blipFill>
          <a:blip r:embed="rId13"/>
          <a:stretch/>
        </p:blipFill>
        <p:spPr>
          <a:xfrm>
            <a:off x="6516720" y="1989000"/>
            <a:ext cx="1533600" cy="3456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H="1">
            <a:off x="4500360" y="3357720"/>
            <a:ext cx="2447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500360" y="4221000"/>
            <a:ext cx="24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779640" y="2852280"/>
            <a:ext cx="331308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2920" y="5084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500720" y="3933720"/>
            <a:ext cx="2519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Verdana"/>
              </a:rPr>
              <a:t>Kanaler og rol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5684760" y="593640"/>
            <a:ext cx="34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ontent Management Ser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9280" y="1619280"/>
            <a:ext cx="865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Verdana"/>
              </a:rPr>
              <a:t>Teknis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Enkle, men fleksible template mulighe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Åpent og godt dokumentert A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MSCMS leverer vertøy for å gjøre det enkelt å vedlikeholde store dynamiske si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72360" y="4221000"/>
            <a:ext cx="1908000" cy="2187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684760" y="593640"/>
            <a:ext cx="34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ontent Management Ser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372360" y="4221000"/>
            <a:ext cx="1908000" cy="2187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9640" y="161928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Verdana"/>
              </a:rPr>
              <a:t>Teknis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Installeres på I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Lagrer innhold i SQL ser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Tidligere NCompass versjon 4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012000" y="3933720"/>
            <a:ext cx="1317600" cy="1897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564000" y="4076640"/>
            <a:ext cx="2819160" cy="1698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684760" y="593640"/>
            <a:ext cx="34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ontent Management Ser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2:06:24Z</dcterms:created>
  <dc:creator>edmund</dc:creator>
  <dc:description/>
  <dc:language>en-US</dc:language>
  <cp:lastModifiedBy>Martin Reime</cp:lastModifiedBy>
  <dcterms:modified xsi:type="dcterms:W3CDTF">2002-06-02T16:37:45Z</dcterms:modified>
  <cp:revision>96</cp:revision>
  <dc:subject/>
  <dc:title>PowerPoint Presentation</dc:title>
</cp:coreProperties>
</file>